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28A-0C39-4615-BF87-DD176347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3A7-2921-4510-A6E5-4DA76B9B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520-68A9-4E0F-94C0-45060FBD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417-CE6F-4931-894E-0C0E8F93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65CF-DC73-4957-9B38-C5D3AA59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2CC1-7345-46D3-8894-AF822B4D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90B7-1F8F-4CB4-B25C-FC2F54C1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FE53-83A0-4142-8B41-F168C235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3180-5E6C-4B28-9932-3C235C36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364D-3177-4198-B47B-C9C98B3C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8627-8359-491D-BD33-9FE433FC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43E-DD00-454E-93D0-ED4C8C6F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1421-2E2B-4F16-9C00-E2FC393E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F8D4-7E5E-4CAE-B1D2-15E63D13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E621-0B7B-4860-BC83-D215AFA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C47C-37D5-4938-80DC-4DE72E6B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417A-1534-4E66-B539-85CFADC4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2F1-8661-4733-8FAF-F37422C7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F0E-8064-4BD1-B658-6B167B18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E65-9E6C-4DE7-A4B4-1059CC21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FB7-5D9A-4028-A986-0332462E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226-25DD-4CFA-A20C-5056889C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581-BE9C-4EC1-B54D-13A3250B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3D8-05D6-4D1E-B543-AB9B2D07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F74D-D141-4477-9907-66AB8B2AB8B5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03A3-F947-47F5-A7EB-0B1647AB49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ADC3-1F7F-400C-9D62-373D124A7FB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88A1-33A4-4E6A-8D49-015C83BC356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Arial"/>
              </a:rPr>
              <a:t>Теории профилактики зависимого поведения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24000" y="5013000"/>
            <a:ext cx="4895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ГППУ Лаборатория «Медико-психологическая реабилитац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шинова В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857160" y="3929040"/>
            <a:ext cx="257184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31BD-F225-433F-A8E5-8D9A98AC996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850A-0D9F-452B-ADD9-44389BA6F9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Структура теорий зависимост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18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ы возникновения завис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тина вовлечения в зависим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ы наступления реми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ы срывов (после периода ремисс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агностика и помощь на каждом этапе завис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C4B0-921B-4945-9CE9-1E633A8A2FF6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1532-4F65-4E37-8E17-6BFB5D5F3D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сихологические теории зависимости</a:t>
            </a: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ека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02800" cy="3976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0-е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Аусабель Алейн (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usubel Alien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ест Гуанер Видер (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West Guarner Wieder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Каплана Хейндина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Kaplan Hendin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аптивные или защитные функции употребления наркотиков и патологические явления при их злоупотреблен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2032-9C74-447E-895C-56841DE7E1B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7275-8EF8-46E4-9C09-C6A08E6F22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сихологические теории зависимости</a:t>
            </a: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ек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0-е го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Хендин (Hendin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Милкман (Milkman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Фрош (Frosc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роин, марихуана, ЛСД и амфетамины призывают людей к различным видам в завис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ый агент зависимости вызывает заболевание от конкретных психофармакологических эффектов каждого препарата (или явле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6A95-DF2D-45B2-9E66-8F8A9D9FB28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7FF9-1981-4DEA-8735-8C140BFC71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сихологические теории зависимости</a:t>
            </a: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ека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11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0-е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Элиот Фридсон (Е.Friedson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американский социолог в социологии медицины, девиантности, наркотиз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медицинская модель наркомании  (алкоголизма)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криминальная модель наркомании (алкоголизма)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280E-5BA8-445C-A638-EA98D6C1D66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F682-6AB2-4C20-9A85-BD91C32AA2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сихотерапевтические теории зависимости 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ек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32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Нильс Бейр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сихотерапевтическая модель удоволь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Стэнт Пи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генетическая модель постулирует генетическую предрасположен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Ричард Солома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теориия «порожденных государств», - каждое психологического события сопровождаться противоположным психологическим событи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7C17-E712-4579-9FC4-583C2975A90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67B7-44A2-4D4A-8B9A-A8712C500C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Теории появления зависимого поведения в области психотерап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18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Д.М.Менделеви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современный отечественные ученый – первое в России «Руководство по аддиктолог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оположник системной теории девиантного поведения – как основы зависимог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17ED-4564-40DE-87F7-36CEA7DDAEB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6BBC-FEF5-4258-88F4-F5FC8B3955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Изучения профилактики зависимого поведен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565000"/>
            <a:ext cx="8435880" cy="289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0-годы – активное развитие профилактического немедицинского знания в области предотвращения зависимог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0 годы – бурное развитие профилактической науки направленной на сохранение, расширение и развитие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CAF-38ED-4F18-8F7E-CDBD27A912C6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2049-9047-4872-BADA-C444C42689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Особенности структуры теорий профилактики зависимого поведен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179280" y="1916280"/>
            <a:ext cx="5257800" cy="4392360"/>
          </a:xfrm>
          <a:custGeom>
            <a:avLst/>
            <a:gdLst>
              <a:gd name="textAreaLeft" fmla="*/ 1200240 w 5257800"/>
              <a:gd name="textAreaRight" fmla="*/ 4057560 w 5257800"/>
              <a:gd name="textAreaTop" fmla="*/ 1002600 h 4392360"/>
              <a:gd name="textAreaBottom" fmla="*/ 338976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5977080" y="5600880"/>
            <a:ext cx="2508120" cy="1239480"/>
          </a:xfrm>
          <a:prstGeom prst="cloudCallout">
            <a:avLst>
              <a:gd name="adj1" fmla="val -80949"/>
              <a:gd name="adj2" fmla="val -5012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859200" y="4892760"/>
            <a:ext cx="1563840" cy="1049400"/>
          </a:xfrm>
          <a:prstGeom prst="wedgeEllipseCallout">
            <a:avLst>
              <a:gd name="adj1" fmla="val -62587"/>
              <a:gd name="adj2" fmla="val -7072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6735600" y="573876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860640" y="523404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97C3-8A8D-47E0-BDA6-0F6BCD25C73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2380-DFDC-4DB6-ACC4-66CB3F7840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Дата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A19B-6D0E-4E9E-828A-71ACDC33F63E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9078-7F72-4119-84B5-FA53426C79E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Международная классификация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деятельности по сбережению психического здоровья (США 1998 г)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ubChord"/>
          <p:cNvSpPr/>
          <p:nvPr/>
        </p:nvSpPr>
        <p:spPr>
          <a:xfrm rot="8157600">
            <a:off x="539280" y="1915920"/>
            <a:ext cx="7775640" cy="8180280"/>
          </a:xfrm>
          <a:custGeom>
            <a:avLst/>
            <a:gdLst>
              <a:gd name="textAreaLeft" fmla="*/ 1138680 w 7775640"/>
              <a:gd name="textAreaRight" fmla="*/ 6637320 w 7775640"/>
              <a:gd name="textAreaTop" fmla="*/ 1197720 h 8180280"/>
              <a:gd name="textAreaBottom" fmla="*/ 6982560 h 8180280"/>
            </a:gdLst>
            <a:ahLst/>
            <a:rect l="textAreaLeft" t="textAreaTop" r="textAreaRight" b="textAreaBottom"/>
            <a:pathLst>
              <a:path w="21600" h="21600">
                <a:moveTo>
                  <a:pt x="3019" y="3309"/>
                </a:moveTo>
                <a:cubicBezTo>
                  <a:pt x="1082" y="5321"/>
                  <a:pt x="0" y="8006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892" y="21600"/>
                  <a:pt x="16835" y="20274"/>
                  <a:pt x="18885" y="17959"/>
                </a:cubicBezTo>
                <a:close/>
              </a:path>
            </a:pathLst>
          </a:custGeom>
          <a:solidFill>
            <a:srgbClr val="999966"/>
          </a:solidFill>
          <a:ln w="5724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7"/>
          <p:cNvCxnSpPr>
            <a:stCxn id="176" idx="1"/>
            <a:endCxn id="176" idx="0"/>
          </p:cNvCxnSpPr>
          <p:nvPr/>
        </p:nvCxnSpPr>
        <p:spPr>
          <a:xfrm flipV="1">
            <a:off x="4452840" y="6078240"/>
            <a:ext cx="398232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Line 8"/>
          <p:cNvSpPr/>
          <p:nvPr/>
        </p:nvSpPr>
        <p:spPr>
          <a:xfrm flipV="1">
            <a:off x="4427640" y="4220640"/>
            <a:ext cx="3529080" cy="1729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9"/>
          <p:cNvSpPr/>
          <p:nvPr/>
        </p:nvSpPr>
        <p:spPr>
          <a:xfrm flipV="1">
            <a:off x="4427640" y="3141360"/>
            <a:ext cx="2592360" cy="2879640"/>
          </a:xfrm>
          <a:prstGeom prst="line">
            <a:avLst/>
          </a:prstGeom>
          <a:ln w="381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4427640" y="1988640"/>
            <a:ext cx="73080" cy="4032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4427640" y="2349000"/>
            <a:ext cx="1368360" cy="3527640"/>
          </a:xfrm>
          <a:prstGeom prst="line">
            <a:avLst/>
          </a:prstGeom>
          <a:ln w="381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2"/>
          <p:cNvSpPr/>
          <p:nvPr/>
        </p:nvSpPr>
        <p:spPr>
          <a:xfrm flipH="1" flipV="1">
            <a:off x="3276360" y="2276640"/>
            <a:ext cx="1150920" cy="374472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3"/>
          <p:cNvSpPr/>
          <p:nvPr/>
        </p:nvSpPr>
        <p:spPr>
          <a:xfrm flipH="1" flipV="1">
            <a:off x="1618920" y="3068640"/>
            <a:ext cx="2808360" cy="2952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0" y="3860640"/>
            <a:ext cx="2376360" cy="719280"/>
          </a:xfrm>
          <a:prstGeom prst="wedgeRectCallout">
            <a:avLst>
              <a:gd name="adj1" fmla="val 33634"/>
              <a:gd name="adj2" fmla="val 129472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ниверсальная Профилак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0" y="1916280"/>
            <a:ext cx="1943280" cy="718920"/>
          </a:xfrm>
          <a:prstGeom prst="wedgeRectCallout">
            <a:avLst>
              <a:gd name="adj1" fmla="val 62092"/>
              <a:gd name="adj2" fmla="val 1135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лектив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ф-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2268360" y="1916280"/>
            <a:ext cx="2162520" cy="718920"/>
          </a:xfrm>
          <a:prstGeom prst="wedgeRectCallout">
            <a:avLst>
              <a:gd name="adj1" fmla="val 42972"/>
              <a:gd name="adj2" fmla="val 14867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дикатив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филак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rc 21"/>
          <p:cNvSpPr/>
          <p:nvPr/>
        </p:nvSpPr>
        <p:spPr>
          <a:xfrm>
            <a:off x="4500720" y="3357720"/>
            <a:ext cx="1887480" cy="2798640"/>
          </a:xfrm>
          <a:custGeom>
            <a:avLst/>
            <a:gdLst>
              <a:gd name="textAreaLeft" fmla="*/ 0 w 1887480"/>
              <a:gd name="textAreaRight" fmla="*/ 1887840 w 1887480"/>
              <a:gd name="textAreaTop" fmla="*/ 0 h 2798640"/>
              <a:gd name="textAreaBottom" fmla="*/ 2798640 h 2798640"/>
            </a:gdLst>
            <a:ahLst/>
            <a:rect l="textAreaLeft" t="textAreaTop" r="textAreaRight" b="textAreaBottom"/>
            <a:pathLst>
              <a:path fill="none" w="25742" h="23995">
                <a:moveTo>
                  <a:pt x="-1" y="400"/>
                </a:moveTo>
                <a:cubicBezTo>
                  <a:pt x="1364" y="134"/>
                  <a:pt x="2751" y="-1"/>
                  <a:pt x="4142" y="0"/>
                </a:cubicBezTo>
                <a:cubicBezTo>
                  <a:pt x="16071" y="0"/>
                  <a:pt x="25742" y="9670"/>
                  <a:pt x="25742" y="21600"/>
                </a:cubicBezTo>
                <a:cubicBezTo>
                  <a:pt x="25742" y="22400"/>
                  <a:pt x="25697" y="23199"/>
                  <a:pt x="25608" y="23994"/>
                </a:cubicBezTo>
              </a:path>
              <a:path stroke="0" w="25742" h="23995">
                <a:moveTo>
                  <a:pt x="-1" y="400"/>
                </a:moveTo>
                <a:cubicBezTo>
                  <a:pt x="1364" y="134"/>
                  <a:pt x="2751" y="-1"/>
                  <a:pt x="4142" y="0"/>
                </a:cubicBezTo>
                <a:cubicBezTo>
                  <a:pt x="16071" y="0"/>
                  <a:pt x="25742" y="9670"/>
                  <a:pt x="25742" y="21600"/>
                </a:cubicBezTo>
                <a:cubicBezTo>
                  <a:pt x="25742" y="22400"/>
                  <a:pt x="25697" y="23199"/>
                  <a:pt x="25608" y="23994"/>
                </a:cubicBezTo>
                <a:lnTo>
                  <a:pt x="4142" y="21600"/>
                </a:lnTo>
                <a:close/>
              </a:path>
            </a:pathLst>
          </a:custGeom>
          <a:noFill/>
          <a:ln w="57240">
            <a:solidFill>
              <a:srgbClr val="6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6227640" y="1773360"/>
            <a:ext cx="2772000" cy="1511280"/>
          </a:xfrm>
          <a:prstGeom prst="wedgeRoundRectCallout">
            <a:avLst>
              <a:gd name="adj1" fmla="val -59222"/>
              <a:gd name="adj2" fmla="val 108717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чение по стандартам Сопровождение 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0540-DBF7-4120-A608-8F55DB3F494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F412-4E4E-4342-981A-CD24177A3D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Классификация теорий профилактики зависимост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ории универсальной профилак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и здоровья, благополучия, норм жизнедеятельности и качеств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ории селективной профилакт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и потенциально опасных фа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ории индикативной профилакт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и зависимого поведения (причины возникновения и причины срыв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AC06-E192-4546-B3C7-B04461E6B74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408A-1520-4D55-8F70-15F0886666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Arial"/>
              </a:rPr>
              <a:t>Направления научного знания в области зависимого поведен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71640" y="1989000"/>
            <a:ext cx="7129440" cy="1224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аучное знание в обла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зависимог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971640" y="3429000"/>
            <a:ext cx="2663640" cy="280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Научное зн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 обла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озникнов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и терап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зависим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по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4211640" y="3429000"/>
            <a:ext cx="3673440" cy="280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учное зн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обла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филакт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предотвращен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висим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8AFA-4B32-45C5-9D17-625DAAF7922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0CF9-128E-4F88-A5AA-0FA9A32A23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Универсальная профилактика зависимост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52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и, по сбережению здорового поведения и изменения в нежелательного поведении люд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и охраны здоровья, убеждени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и разумного действ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исциплинарные теории (или модели ступеней изменения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и социальной когнитивной теории здоровь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чают на вопрос «почему мы делаем то, что мы делаем, и когда мы это делаем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CE22-D3B5-4897-857A-843787DF0A6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590C-DA9E-4D76-88F3-750B515563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овременная классификация уровней здоровь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ческо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биохимическое, субклеточное, клеточное, органное, телесное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сихическо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эмоциональное, когнитивное, интеллект, поведение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ое (коммуникации, взаимодействия, семьи, групп, сообществ, общества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ксуальное (личные и партнера сексуальные потребности, нормы, восприятие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ховно-нравственное: нематериальные ценност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ответственность, вера, надежда, любовь)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сшие цели и стрем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D564-AE0D-4335-A2CF-3DFF03FA25C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43FA-5DC9-410B-B894-9F68F82EB0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елективная профилактика зависимост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76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и насилия и жестокости в сем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и адап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и стре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и рисковог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чают на вопрос «что происходит с нами, когда действует потенциально опасный фактор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1037-24A3-4D83-8390-A74A4C2F0E4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3918-05F3-461C-96E3-1EB1544277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Индикативная профилактика зависимост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76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и  злоупотребления психоактивными веществ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и патологическ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и компьютерной зависи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и игровой зависи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ии созависимости (трудоголиз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чают на вопрос «что происходит с нами, когда действует причины зависим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F788-5D1A-4C9E-BFC4-E0A94F23588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EE46-DE03-45DD-BC40-CE4090FF22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70580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Теории  злоупотребления психоактивными веществами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828800"/>
          <a:ext cx="8229600" cy="46036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Автор год опубликования тео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Названия тео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derick 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, 19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употребления наркотиками, как усвоенное пове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wi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, 1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ория привычки к злоупотреблению наркотиков и алкогол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ll 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19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ория чувства собственного достоин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1755-7BD9-4256-8438-3D88FC45F28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FA8A-8D7D-42DA-A315-BA6AC9CF31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Теории  злоупотребления психоактивными веществам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828800"/>
          <a:ext cx="8229600" cy="494172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Автор год опубликования тео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Названия тео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del 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дии развития в подростков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е на влияние  потребл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котиков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 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ория насилия в семь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hagen 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е девиации и началь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лонности к наркотикам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коголю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5D3F-791A-4DA5-8BAC-474D147C0FF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3AB4-D38F-462A-B1EF-08496BDCC5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овременные научные периодические издания в области зависимого поведен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ddictive Beh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dolescen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merican Educational Research Journa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Basic and Applied Social Psycholog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anadian Journal of Public Healt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hildren and Youth Services Review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более 400 журналов только в издательском дом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for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9C9-B6B4-484A-908D-C321481B1520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6D7B-8109-475A-A86F-D7EF0D0A28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616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знание в области зависимости обширно и представлено различными научными направл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годня преобладают психологические теории в области завис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окупность научных теорий  профилактики значительно преобладает над теориями возникновения зависимог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C91D-89BC-49E5-8746-FC4A0F4EDCE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CEB-CC73-4ABE-9FA2-6E6001F406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87280" y="1828440"/>
            <a:ext cx="7042320" cy="3616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ак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vkt.arsheenova@g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0614-8AF7-4305-BE95-34D64C31FAE0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198F-D721-40AD-9526-1A164CF747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Arial"/>
              </a:rPr>
              <a:t>Блоки знаний в области зависимого поведен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1454040" y="1828800"/>
            <a:ext cx="62341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9C6C-DE78-4F2D-8872-E76C0451D1A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3944-66A2-432E-A93F-8D2A23C2A2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Arial"/>
              </a:rPr>
              <a:t>Гуманитарные и социально-экономические науки в области зависимого поведени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565360"/>
            <a:ext cx="3467160" cy="311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сихолог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ософ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лог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соф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2565360"/>
            <a:ext cx="3452760" cy="31132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олог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AD57-5C6F-4B71-A3AA-8BC10083485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D460-8626-4DB6-A91D-9BCC40F9B9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сихологические науки в области зависимого поведен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984240" y="1828800"/>
          <a:ext cx="717552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1828800"/>
                    <a:ext cx="717552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C8FF-69B8-46B9-8F1B-7614736F5B45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C79A-677F-44B0-9A63-105FA8E91F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История становления науки в области зависимого поведен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42160" cy="3832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 - первые термины– «аддикция, аддик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X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чал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ервые научные психологические подх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-год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– активное развитие немедицинских направлений в изучении зависимог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DE06-EE19-4ED0-BAD9-302F441848E5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326B-58DF-43C1-B4CD-B424FD74F6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Теории появления зависимого поведения в области психологии в 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еке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95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 1926 г. Радо (Rad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зучение наркомании учеными медиками игнорировали социальные и даже семейные факторы и рассматривали аддикта в психологическом вакуум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 1945 г. Феничель (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Fenichel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се 195 видов наркотиков вызывают одну и ту же болезнь, характеризующуюся как импульс беспорядок, в котором, Эго считалось покоренным, а  архаичная нужда выражается только в потребности орального удовлетвор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2EC1-CA15-4B9E-8B92-077D40CEF619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DCBB-5241-4E9A-ADCF-1E5BDF8296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Теории появления зависимого поведения в области психологии в 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еке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471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 1946 г. Анна Фрейд (A.Freu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сихологические модели зависимого поведения в области психоанализ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ая защитные механизмы в развитии личности подростка, описаны особенности прохождения ребенком оральной, анальной, фаллическую, латентную и генитальную стадии становления в алкогольной семь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4572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C5BF-8693-4F20-94E7-A4A1445113FE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3B99-9A43-4466-AF1E-8763859AF3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Теории появления зависимого поведения в области психологии в </a:t>
            </a: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еке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-е год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Джордж Энгель  (George Eng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«биопсихосоциальная модель болезни» (The biopsychosocial model - abbreviated «BPS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м рубежом в развитии методологии комплексных, системных основ моделирования патогенеза зависимос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7:10:17Z</dcterms:created>
  <dc:creator>Admin</dc:creator>
  <dc:description/>
  <dc:language>en-US</dc:language>
  <cp:lastModifiedBy>tikhonov</cp:lastModifiedBy>
  <dcterms:modified xsi:type="dcterms:W3CDTF">2011-10-03T11:34:12Z</dcterms:modified>
  <cp:revision>39</cp:revision>
  <dc:subject/>
  <dc:title>Национальные  и транснациональные системы психического здоровья </dc:title>
</cp:coreProperties>
</file>