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A659-6E03-4418-AFB6-28327CC4C1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ГППУ  Лаборатория медико-психологической реабилит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F6BF-37B2-40F6-BB06-85CBC50B767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филактика зависимого поведения: новый взгля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1A08-FC0C-444D-8CB3-F31F187720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ГППУ  Лаборатория медико-психологической реабилит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2CED-008E-4102-8DE2-CD42D575418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ка зависимого поведения: новый взгля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D419-1004-48E7-A9B3-E19DD773C8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ГППУ  Лаборатория медико-психологической реабилит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3001-BDEC-423E-A073-CF3B8BD9AAED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филактика зависимого поведения: новый взгля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21F5-3141-4351-8421-EACA84A74B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C88-4E3E-4B36-A222-31923735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5663-7B29-4356-A57E-AA702478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51F-A340-46B3-B0CE-1BAEC96B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027-1B5C-4D54-9A17-BBF4F198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971E-0869-4A1F-BD93-688FC193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2F86-4483-4F7C-AEDF-5148A5FA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EF13-B4F1-48C4-BC72-CD84566F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D723-A576-4E18-A28C-A50A0D1F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BEF5-8DE7-43EC-B2FD-116A9160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C03E-7D3B-4969-B9A3-CAC92B68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7651-8A84-42AF-80BF-4E1CD46C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DAD7-F66D-487A-9948-E46BD5ED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EE7E-B809-49BC-BD20-CFAB5DC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D9AB-F7E1-4AAE-8A68-408ECF11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F12A-0E28-40BC-9192-47612AA4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E583-3369-4B51-A074-B09494AA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EF93-7903-4BFF-B7F9-934FD024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C6490-C2DB-43EC-B296-2CE001EA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C9C6-15CF-46B8-A83B-1340CD31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87B4-9280-4C3F-8791-08CCC13C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C2CBA-784C-4F5A-9305-FD8651F7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6A51-6FE0-4C32-A024-9776C727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185-B337-4A05-AA12-D7BE51A8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207B-8066-49FF-B4C9-08277CC6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01CF-01EA-453A-978B-7D3022DD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84E1D-67DA-4940-98A6-7F5215ED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A513-1C02-4DEF-AA20-3B077D90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D5DF-706B-4DB6-B225-5D027C6D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E6A3-E0BF-489F-A2C1-AEE4F603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659C5-B88E-44E7-A52E-38ECCFBA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9274B-B21F-4F31-A431-4BC8F729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078E-9A44-426E-8B15-AAB7D0E1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E6B7-6D27-4BAF-A6F3-6AA23E69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FFD-4F5A-496B-BBAA-591FD8F5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C5EDA-DA5C-4B51-BCD4-61498982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B7716-A918-45A5-BC5C-7F273CE7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C1FF-37C1-4441-A187-E1002A2F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F2AC1-D9D8-423B-9EBE-B9261DF9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68A3-2A29-4381-876E-44406215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E8C9-2B75-48CB-8761-DDDB6D4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E7D4D-F7B7-4352-8A6F-11A79627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3CF4F-470B-4EC0-98BD-1A050240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8914-F376-4B78-9A07-63DEB4E5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BB75-8FD1-4A2C-9F79-A13C514D6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543-1DA1-4E3C-90B6-E5F76D51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E7669-642C-4185-94DA-19983544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B2C99-4A85-4FF3-866B-95FDC106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D22E1-DD3B-46EF-8701-E91BCE12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4082F-B7BB-46CF-A307-13E4986F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7E5ED-E5EB-49C7-BE7B-5D900488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231F6-CDB5-48F9-85BD-F98A3E00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63640-401B-4455-98F9-146272A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32CD0-1300-4872-9DB3-D066ED31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07075-8508-491E-90AE-A81DA856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CB695-0265-4B75-A790-4AF3269B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E8B-FAB2-4911-B879-307FA405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214D3-82BD-4DCA-9C26-3D2DA5B8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45C-CA64-45E5-B1EB-D1EA8DC9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9C3-264A-454F-9A99-EBD38F4A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57F-B296-45E0-8078-56A27C10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1A49-C67C-4262-AAE5-6A1B6D2EE48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AC54-4142-4F75-AF6C-60AB8B40053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3ACF-374D-4F03-AD23-32E9A6F407F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4134-E907-4CBB-A3A3-A4F613B5322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6F5E-6381-4092-A919-A7839E0C72A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4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33"/>
                </a:solidFill>
                <a:latin typeface="Garamond"/>
              </a:rPr>
              <a:t>ФПО МГУ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30200" y="2803680"/>
            <a:ext cx="7129440" cy="2209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9766f"/>
                </a:solidFill>
                <a:latin typeface="Arial"/>
              </a:rPr>
              <a:t>Тема 4. Теория и практика  профилактики зависи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859280" y="5229360"/>
            <a:ext cx="3745080" cy="985680"/>
          </a:xfrm>
          <a:prstGeom prst="rect">
            <a:avLst/>
          </a:prstGeom>
          <a:solidFill>
            <a:srgbClr val="cc99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ршинова В.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.психол.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Дата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8962-D7B4-4F38-898F-A4F720E7DC4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Профилактика зависимого поведения: новый взгляд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FEDD-7EB9-4497-A56D-BDBD6A1AB7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993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Пространство первичной профилактики в различных видах зависимости в России (07.07.2009 МСЗНиЗ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92" name="Object 3"/>
          <p:cNvGraphicFramePr/>
          <p:nvPr/>
        </p:nvGraphicFramePr>
        <p:xfrm>
          <a:off x="0" y="1770120"/>
          <a:ext cx="914400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0120"/>
                    <a:ext cx="914400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Теоретический поиск  системного фак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для профилактики зависим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Специфические теории профилактики аддикци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ая ориентация человека на продолжительность жизни, – наприм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теория субъективного ожидания полезности С.Р.Сут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Sutton),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теория защитной мотивации К.Р.Роджер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ger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иентированность на позитивное будущее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оциально-когнитивная теория А.Бандуры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.Bandur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еленность на результат от изменения по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теория обоснованных действий И.Айзена  и М.Фишбей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Ajzen &amp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Fishbei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теория запланированного пове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.Айзе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Ajze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Новый подхо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к системной  профилактике зависимого п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Основы системы эффективной профилактики химической зависимост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83560" y="2428200"/>
            <a:ext cx="2864520" cy="2819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ойчив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4"/>
          <p:cNvSpPr/>
          <p:nvPr/>
        </p:nvSpPr>
        <p:spPr>
          <a:xfrm>
            <a:off x="5219640" y="1989000"/>
            <a:ext cx="3384720" cy="35290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ркотическа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ан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Теория устойчивого развития лич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Соотношение периодов становления УРЛ и АНУ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87280" y="765000"/>
          <a:ext cx="8569440" cy="5900760"/>
        </p:xfrm>
        <a:graphic>
          <a:graphicData uri="http://schemas.openxmlformats.org/drawingml/2006/table">
            <a:tbl>
              <a:tblPr/>
              <a:tblGrid>
                <a:gridCol w="2597040"/>
                <a:gridCol w="3235320"/>
                <a:gridCol w="27370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И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ВИТ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ВООБРАЗОВАНИЯ ЛИЧ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33"/>
                          </a:solidFill>
                          <a:latin typeface="Tahoma"/>
                        </a:rPr>
                        <a:t>Уров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33"/>
                          </a:solidFill>
                          <a:latin typeface="Tahoma"/>
                        </a:rPr>
                        <a:t>устойчив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33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6633"/>
                          </a:solidFill>
                          <a:latin typeface="Tahoma"/>
                        </a:rPr>
                        <a:t>разви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33"/>
                          </a:solidFill>
                          <a:latin typeface="Tahoma"/>
                        </a:rPr>
                        <a:t>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ладенчески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0 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1 до 5-7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есс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ой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Подростк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От 3 лет до 15-16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Психолог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устой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ношески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14 до 18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ой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релы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20 до 33-2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льтуролог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ой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Схема «устойчивого развития личности» в осях</a:t>
            </a: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объективного и субъективного времени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6193080" cy="51516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77080" y="1600200"/>
            <a:ext cx="20160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де: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тенциал личности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 - направляющая жизненного пути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 - жизненный путь цикла устойчивост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4 - жизненный путь цикла неустойчивости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 - область бифуркаци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Соотношение потенциала  уровней устойчивого развития личност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403280" y="1936800"/>
          <a:ext cx="6481800" cy="38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36800"/>
                    <a:ext cx="648180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Семантические формулы устойчивости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- «активность нацелена на спокойств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 -«деятельность нацелена на результатив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-«преодоление нацелено на объедине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-Н - «миролюбие нацелено на познание ист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Поиск системного фактора для профилак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Антинаркотическая установ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Соотношение периодов становления УРЛ и АНУ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87280" y="765000"/>
          <a:ext cx="8569440" cy="5900760"/>
        </p:xfrm>
        <a:graphic>
          <a:graphicData uri="http://schemas.openxmlformats.org/drawingml/2006/table">
            <a:tbl>
              <a:tblPr/>
              <a:tblGrid>
                <a:gridCol w="2597040"/>
                <a:gridCol w="3235320"/>
                <a:gridCol w="273708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И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ВИТ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ОВООБРАЗОВАНИЯ ЛИЧ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33"/>
                          </a:solidFill>
                          <a:latin typeface="Tahoma"/>
                        </a:rPr>
                        <a:t>Уров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33"/>
                          </a:solidFill>
                          <a:latin typeface="Tahoma"/>
                        </a:rPr>
                        <a:t>устойчив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33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6633"/>
                          </a:solidFill>
                          <a:latin typeface="Tahoma"/>
                        </a:rPr>
                        <a:t>разви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33"/>
                          </a:solidFill>
                          <a:latin typeface="Tahoma"/>
                        </a:rPr>
                        <a:t>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наркотическая установка  (диапазоны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ладенчески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0 до 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1 до 5-7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есс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ой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че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психофизический  телесный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Подростк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От 3 лет до 15-16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Психолог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устой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9900"/>
                          </a:solidFill>
                          <a:latin typeface="Tahoma"/>
                        </a:rPr>
                        <a:t>Психологичес-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ношески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14 до 18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ой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релый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 20 до 33-2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льтурологичес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ойчив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уховно-нрав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Экспертная конфигурация антинаркотической установк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1 – психофизиологический диапазон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2 – эмоциональный диапазон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3 – когнитивный диапазон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4 – социальный диапазон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5 – духовно-нравственный диапазон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Зеленым цветом  - обозначена зона сформированных диспозиций АНУ (актуальный уровень развития АНУ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расным цветом -  обозначена зона несформированных диспозиций АНУ (зона перспективного развит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3"/>
          <p:cNvGraphicFramePr/>
          <p:nvPr/>
        </p:nvGraphicFramePr>
        <p:xfrm>
          <a:off x="324000" y="2205000"/>
          <a:ext cx="4392360" cy="35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439236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Условия устойчивого развития личност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1 – психофизиологический диапазон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2 – эмоциональный диапазон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3 – когнитивный диапазон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4 – социальный диапазон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5 – духовно-нравственный диапазон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Зеленым и салатовым цветом обозначена зона условий и методов способствующих сформированности диспозиций АНУ (актуальный уровень развития методов и условий АНУ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Красным и розовым цветом обозначена зона методов и условий  не способствующих формированию диспозиций АНУ (зона перспективного развития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3"/>
          <p:cNvGraphicFramePr/>
          <p:nvPr/>
        </p:nvGraphicFramePr>
        <p:xfrm>
          <a:off x="0" y="1730520"/>
          <a:ext cx="4038480" cy="339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30520"/>
                    <a:ext cx="403848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Эффективная система профилактики наркомании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539640" y="1484280"/>
          <a:ext cx="1738440" cy="146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173844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3"/>
          <p:cNvGraphicFramePr/>
          <p:nvPr/>
        </p:nvGraphicFramePr>
        <p:xfrm>
          <a:off x="2771640" y="930240"/>
          <a:ext cx="5904000" cy="5186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930240"/>
                    <a:ext cx="59040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3"/>
          <p:cNvGraphicFramePr/>
          <p:nvPr/>
        </p:nvGraphicFramePr>
        <p:xfrm>
          <a:off x="611280" y="4005360"/>
          <a:ext cx="1731960" cy="1319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4005360"/>
                    <a:ext cx="173196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Систем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профилактики зависим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Системные теории профилактики аддикци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Теории «Модель Веры в Здравоохранени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(HBM  - Health Belief Mode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.К.Янц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, и М.Х.Беккер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k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Теория нарушения долгосрочных связей в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тин Койман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im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Модель научного стремления к исти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модели человека надо строить  не на  биологическом организме и не на системе понятий удовольствие-неудовольстви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.Кел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.Ke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еория жизнестойк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hardiness) Сальватора Мад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.Mad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Дата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Профилактика зависимого поведения: новый взгляд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Модель системы эффективной профилактической деятельности в сфере образовани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850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Дата 1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D732-1F6A-473E-8CED-4CE74C1814DB}" type="datetime">
              <a:rPr b="0" lang="en-US" sz="1000" spc="-1" strike="noStrike">
                <a:solidFill>
                  <a:srgbClr val="a7a399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1D22-75A2-4941-8075-8666FC2BDCB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aptop"/>
          <p:cNvSpPr/>
          <p:nvPr/>
        </p:nvSpPr>
        <p:spPr>
          <a:xfrm>
            <a:off x="468360" y="285840"/>
            <a:ext cx="8675640" cy="5807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124000" y="571680"/>
            <a:ext cx="5472360" cy="343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СПАСИБ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3232"/>
                </a:solidFill>
                <a:latin typeface="Arial"/>
              </a:rPr>
              <a:t>ЗА ВНИМ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итина Светлана &lt;nala2nd@gmail.com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kt.arsheenova@gmail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Причины возникновения зависимости на примере наркомани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"/>
          <p:cNvSpPr/>
          <p:nvPr/>
        </p:nvSpPr>
        <p:spPr>
          <a:xfrm>
            <a:off x="1943280" y="4869000"/>
            <a:ext cx="5256000" cy="93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ркома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2951280" y="1700280"/>
            <a:ext cx="3240000" cy="29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осредован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ые факто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ь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ы морал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рытые факто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628640"/>
            <a:ext cx="2232000" cy="29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свен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онодательст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бла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филакти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коман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клам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1700280"/>
            <a:ext cx="1943280" cy="29527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ям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упнос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котическ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ществ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ия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ркотико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рганиз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85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Открытые  причинные - факторы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возникновения наркомании среди отечественной молодеж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66117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9900"/>
                </a:solidFill>
                <a:latin typeface="Arial"/>
              </a:rPr>
              <a:t>Однонаправленное воспитание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личн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9900"/>
                </a:solidFill>
                <a:latin typeface="Arial"/>
              </a:rPr>
              <a:t>Снижение норм морал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нравственности в семье, в учреждениях образования и общества в цело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9900"/>
                </a:solidFill>
                <a:latin typeface="Arial"/>
              </a:rPr>
              <a:t>Духовная депривация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лодеж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c9900"/>
                </a:solidFill>
                <a:latin typeface="Arial"/>
              </a:rPr>
              <a:t>Уязвимость и безнадежнос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 быстрых социальных перемена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сокая степень </a:t>
            </a:r>
            <a:r>
              <a:rPr b="0" lang="ru-RU" sz="2100" spc="-1" strike="noStrike">
                <a:solidFill>
                  <a:srgbClr val="cc9900"/>
                </a:solidFill>
                <a:latin typeface="Arial"/>
              </a:rPr>
              <a:t>рисков насил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физических заболева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7068960" y="1844640"/>
            <a:ext cx="1895760" cy="24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000080" y="1000080"/>
          <a:ext cx="7143840" cy="2192400"/>
        </p:xfrm>
        <a:graphic>
          <a:graphicData uri="http://schemas.openxmlformats.org/drawingml/2006/table">
            <a:tbl>
              <a:tblPr/>
              <a:tblGrid>
                <a:gridCol w="3571920"/>
                <a:gridCol w="3571920"/>
              </a:tblGrid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есс, дистресс, кризис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ром парадоксальной самоликвид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прессия,  астен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дром выгорани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иночество,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ицид  и 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b81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котинизм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коголизм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комания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щевая зависимос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пьютерная  зависимос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емблинг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нет-зависи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236" name="Прямоугольник 7"/>
          <p:cNvSpPr/>
          <p:nvPr/>
        </p:nvSpPr>
        <p:spPr>
          <a:xfrm>
            <a:off x="395280" y="260280"/>
            <a:ext cx="8353440" cy="642960"/>
          </a:xfrm>
          <a:prstGeom prst="rect">
            <a:avLst/>
          </a:prstGeom>
          <a:solidFill>
            <a:srgbClr val="cccc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Скрытые факторы  вреда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разрушающие здоровье, нормы жизни и деятельности, благополучие и качество жизни люде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Стрелка вниз 9"/>
          <p:cNvSpPr/>
          <p:nvPr/>
        </p:nvSpPr>
        <p:spPr>
          <a:xfrm rot="18451800">
            <a:off x="1950120" y="2607120"/>
            <a:ext cx="3143520" cy="1643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996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Негативны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психолого-социальные синдром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Стрелка вниз 10"/>
          <p:cNvSpPr/>
          <p:nvPr/>
        </p:nvSpPr>
        <p:spPr>
          <a:xfrm>
            <a:off x="3995640" y="3429000"/>
            <a:ext cx="2714760" cy="1428840"/>
          </a:xfrm>
          <a:prstGeom prst="downArrow">
            <a:avLst>
              <a:gd name="adj1" fmla="val 50000"/>
              <a:gd name="adj2" fmla="val 48639"/>
            </a:avLst>
          </a:prstGeom>
          <a:solidFill>
            <a:srgbClr val="cc99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ддик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Прямоугольник 11"/>
          <p:cNvSpPr/>
          <p:nvPr/>
        </p:nvSpPr>
        <p:spPr>
          <a:xfrm>
            <a:off x="1785960" y="4941720"/>
            <a:ext cx="5572080" cy="1143000"/>
          </a:xfrm>
          <a:prstGeom prst="rect">
            <a:avLst/>
          </a:prstGeom>
          <a:solidFill>
            <a:srgbClr val="ffcc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спроизводст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населе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материальные ресурсы об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Поворот поиска  системного фак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для профилактики зависим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Отечественное поле предотвращения зависимост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135880" y="1871280"/>
            <a:ext cx="3942720" cy="3353400"/>
            <a:chOff x="2135880" y="1871280"/>
            <a:chExt cx="3942720" cy="3353400"/>
          </a:xfrm>
        </p:grpSpPr>
        <p:sp>
          <p:nvSpPr>
            <p:cNvPr id="244" name="_s87045"/>
            <p:cNvSpPr/>
            <p:nvPr/>
          </p:nvSpPr>
          <p:spPr>
            <a:xfrm>
              <a:off x="2135880" y="2351880"/>
              <a:ext cx="2953800" cy="2872800"/>
            </a:xfrm>
            <a:prstGeom prst="donut">
              <a:avLst>
                <a:gd name="adj" fmla="val 1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_s87046"/>
            <p:cNvSpPr/>
            <p:nvPr/>
          </p:nvSpPr>
          <p:spPr>
            <a:xfrm>
              <a:off x="5487840" y="3145320"/>
              <a:ext cx="590760" cy="318600"/>
            </a:xfrm>
            <a:noFill/>
            <a:ln w="93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Расш</a:t>
              </a:r>
              <a:r>
                <a:rPr b="1" lang="en-US" sz="1900" spc="-1" strike="noStrike">
                  <a:solidFill>
                    <a:srgbClr val="000066"/>
                  </a:solidFill>
                  <a:latin typeface="Tahoma"/>
                </a:rPr>
                <a:t>ирение ремиссии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_s87047"/>
            <p:cNvSpPr/>
            <p:nvPr/>
          </p:nvSpPr>
          <p:spPr>
            <a:xfrm>
              <a:off x="2431080" y="2639160"/>
              <a:ext cx="2363040" cy="2297880"/>
            </a:xfrm>
            <a:prstGeom prst="donut">
              <a:avLst>
                <a:gd name="adj" fmla="val 12500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_s87048"/>
            <p:cNvSpPr/>
            <p:nvPr/>
          </p:nvSpPr>
          <p:spPr>
            <a:xfrm>
              <a:off x="5487840" y="2826360"/>
              <a:ext cx="590760" cy="318600"/>
            </a:xfrm>
            <a:solidFill>
              <a:srgbClr val="3b81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Втор</a:t>
              </a: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ичная профилактик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_s87049"/>
            <p:cNvSpPr/>
            <p:nvPr/>
          </p:nvSpPr>
          <p:spPr>
            <a:xfrm>
              <a:off x="2727000" y="2926800"/>
              <a:ext cx="1772280" cy="1723320"/>
            </a:xfrm>
            <a:prstGeom prst="donut">
              <a:avLst>
                <a:gd name="adj" fmla="val 16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_s87050"/>
            <p:cNvSpPr/>
            <p:nvPr/>
          </p:nvSpPr>
          <p:spPr>
            <a:xfrm>
              <a:off x="5487840" y="2508120"/>
              <a:ext cx="590760" cy="318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Расш</a:t>
              </a:r>
              <a:r>
                <a:rPr b="1" lang="en-US" sz="1900" spc="-1" strike="noStrike">
                  <a:solidFill>
                    <a:srgbClr val="000066"/>
                  </a:solidFill>
                  <a:latin typeface="Tahoma"/>
                </a:rPr>
                <a:t>ирение ремиссии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_s87051"/>
            <p:cNvSpPr/>
            <p:nvPr/>
          </p:nvSpPr>
          <p:spPr>
            <a:xfrm>
              <a:off x="3022200" y="3213720"/>
              <a:ext cx="1181520" cy="1149120"/>
            </a:xfrm>
            <a:prstGeom prst="donut">
              <a:avLst>
                <a:gd name="adj" fmla="val 250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_s87052"/>
            <p:cNvSpPr/>
            <p:nvPr/>
          </p:nvSpPr>
          <p:spPr>
            <a:xfrm>
              <a:off x="5487840" y="2189520"/>
              <a:ext cx="590760" cy="318600"/>
            </a:xfr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Риск </a:t>
              </a: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неблагополучия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_s87053"/>
            <p:cNvSpPr/>
            <p:nvPr/>
          </p:nvSpPr>
          <p:spPr>
            <a:xfrm>
              <a:off x="3317760" y="3501000"/>
              <a:ext cx="590400" cy="574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87054"/>
            <p:cNvSpPr/>
            <p:nvPr/>
          </p:nvSpPr>
          <p:spPr>
            <a:xfrm>
              <a:off x="5487840" y="1871280"/>
              <a:ext cx="590760" cy="318240"/>
            </a:xfr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Tahoma"/>
                </a:rPr>
                <a:t>Перв</a:t>
              </a:r>
              <a:r>
                <a:rPr b="1" lang="en-US" sz="1900" spc="-1" strike="noStrike">
                  <a:solidFill>
                    <a:srgbClr val="000000"/>
                  </a:solidFill>
                  <a:latin typeface="Tahoma"/>
                </a:rPr>
                <a:t>ичная профилактик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Будущая отечественная стратегия предотвращения действия зависимост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883240" y="2064960"/>
            <a:ext cx="4092840" cy="3453120"/>
            <a:chOff x="2883240" y="2064960"/>
            <a:chExt cx="4092840" cy="3453120"/>
          </a:xfrm>
        </p:grpSpPr>
        <p:sp>
          <p:nvSpPr>
            <p:cNvPr id="256" name="_s142341"/>
            <p:cNvSpPr/>
            <p:nvPr/>
          </p:nvSpPr>
          <p:spPr>
            <a:xfrm>
              <a:off x="2883240" y="2559960"/>
              <a:ext cx="3066480" cy="2958120"/>
            </a:xfrm>
            <a:prstGeom prst="donut">
              <a:avLst>
                <a:gd name="adj" fmla="val 1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142342"/>
            <p:cNvSpPr/>
            <p:nvPr/>
          </p:nvSpPr>
          <p:spPr>
            <a:xfrm>
              <a:off x="6363000" y="3376800"/>
              <a:ext cx="613080" cy="327960"/>
            </a:xfrm>
            <a:noFill/>
            <a:ln w="93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ahoma"/>
                </a:rPr>
                <a:t>Риск первых проявлени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142343"/>
            <p:cNvSpPr/>
            <p:nvPr/>
          </p:nvSpPr>
          <p:spPr>
            <a:xfrm>
              <a:off x="3189600" y="2856240"/>
              <a:ext cx="2453040" cy="2366280"/>
            </a:xfrm>
            <a:prstGeom prst="donut">
              <a:avLst>
                <a:gd name="adj" fmla="val 12500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142344"/>
            <p:cNvSpPr/>
            <p:nvPr/>
          </p:nvSpPr>
          <p:spPr>
            <a:xfrm>
              <a:off x="6363000" y="3048840"/>
              <a:ext cx="613080" cy="327600"/>
            </a:xfrm>
            <a:solidFill>
              <a:srgbClr val="3b81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Вторичная профилактик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_s142345"/>
            <p:cNvSpPr/>
            <p:nvPr/>
          </p:nvSpPr>
          <p:spPr>
            <a:xfrm>
              <a:off x="3496680" y="3151800"/>
              <a:ext cx="1839600" cy="1774440"/>
            </a:xfrm>
            <a:prstGeom prst="donut">
              <a:avLst>
                <a:gd name="adj" fmla="val 1666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_s142346"/>
            <p:cNvSpPr/>
            <p:nvPr/>
          </p:nvSpPr>
          <p:spPr>
            <a:xfrm>
              <a:off x="6363000" y="2720880"/>
              <a:ext cx="613080" cy="3279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ahoma"/>
                </a:rPr>
                <a:t>Риск неблагополуч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_s142347"/>
            <p:cNvSpPr/>
            <p:nvPr/>
          </p:nvSpPr>
          <p:spPr>
            <a:xfrm>
              <a:off x="3803040" y="3447360"/>
              <a:ext cx="1226520" cy="1183320"/>
            </a:xfrm>
            <a:prstGeom prst="donut">
              <a:avLst>
                <a:gd name="adj" fmla="val 250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_s142348"/>
            <p:cNvSpPr/>
            <p:nvPr/>
          </p:nvSpPr>
          <p:spPr>
            <a:xfrm>
              <a:off x="6363000" y="2393280"/>
              <a:ext cx="613080" cy="327600"/>
            </a:xfr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Третичная профилактик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_s142349"/>
            <p:cNvSpPr/>
            <p:nvPr/>
          </p:nvSpPr>
          <p:spPr>
            <a:xfrm>
              <a:off x="4110120" y="3743640"/>
              <a:ext cx="612720" cy="591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_s142350"/>
            <p:cNvSpPr/>
            <p:nvPr/>
          </p:nvSpPr>
          <p:spPr>
            <a:xfrm>
              <a:off x="6363000" y="2064960"/>
              <a:ext cx="613080" cy="327960"/>
            </a:xfr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6600"/>
                  </a:solidFill>
                  <a:latin typeface="Tahoma"/>
                </a:rPr>
                <a:t>Расширение ремисси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40280" y="1580040"/>
            <a:ext cx="2098080" cy="1784880"/>
            <a:chOff x="440280" y="1580040"/>
            <a:chExt cx="2098080" cy="1784880"/>
          </a:xfrm>
        </p:grpSpPr>
        <p:sp>
          <p:nvSpPr>
            <p:cNvPr id="267" name="_s142353"/>
            <p:cNvSpPr/>
            <p:nvPr/>
          </p:nvSpPr>
          <p:spPr>
            <a:xfrm>
              <a:off x="440280" y="1836000"/>
              <a:ext cx="1571760" cy="1528920"/>
            </a:xfrm>
            <a:prstGeom prst="donut">
              <a:avLst>
                <a:gd name="adj" fmla="val 1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_s142354"/>
            <p:cNvSpPr/>
            <p:nvPr/>
          </p:nvSpPr>
          <p:spPr>
            <a:xfrm>
              <a:off x="2224080" y="2257920"/>
              <a:ext cx="314280" cy="169560"/>
            </a:xfrm>
            <a:noFill/>
            <a:ln w="93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66"/>
                  </a:solidFill>
                  <a:latin typeface="Tahoma"/>
                </a:rPr>
                <a:t>Расширение ремиссии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_s142355"/>
            <p:cNvSpPr/>
            <p:nvPr/>
          </p:nvSpPr>
          <p:spPr>
            <a:xfrm>
              <a:off x="597600" y="1988640"/>
              <a:ext cx="1257120" cy="1222920"/>
            </a:xfrm>
            <a:prstGeom prst="donut">
              <a:avLst>
                <a:gd name="adj" fmla="val 12500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_s142356"/>
            <p:cNvSpPr/>
            <p:nvPr/>
          </p:nvSpPr>
          <p:spPr>
            <a:xfrm>
              <a:off x="2224080" y="2088360"/>
              <a:ext cx="314280" cy="169560"/>
            </a:xfrm>
            <a:solidFill>
              <a:srgbClr val="3b812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Вторичная профилактика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_s142357"/>
            <p:cNvSpPr/>
            <p:nvPr/>
          </p:nvSpPr>
          <p:spPr>
            <a:xfrm>
              <a:off x="754920" y="2141640"/>
              <a:ext cx="942840" cy="917280"/>
            </a:xfrm>
            <a:prstGeom prst="donut">
              <a:avLst>
                <a:gd name="adj" fmla="val 166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_s142358"/>
            <p:cNvSpPr/>
            <p:nvPr/>
          </p:nvSpPr>
          <p:spPr>
            <a:xfrm>
              <a:off x="2224080" y="1918800"/>
              <a:ext cx="314280" cy="169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66"/>
                  </a:solidFill>
                  <a:latin typeface="Tahoma"/>
                </a:rPr>
                <a:t>Расширение ремиссии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_s142359"/>
            <p:cNvSpPr/>
            <p:nvPr/>
          </p:nvSpPr>
          <p:spPr>
            <a:xfrm>
              <a:off x="911880" y="2294640"/>
              <a:ext cx="628560" cy="611640"/>
            </a:xfrm>
            <a:prstGeom prst="donut">
              <a:avLst>
                <a:gd name="adj" fmla="val 25000"/>
              </a:avLst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_s142360"/>
            <p:cNvSpPr/>
            <p:nvPr/>
          </p:nvSpPr>
          <p:spPr>
            <a:xfrm>
              <a:off x="2224080" y="1749240"/>
              <a:ext cx="314280" cy="169560"/>
            </a:xfr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ahoma"/>
                </a:rPr>
                <a:t>Риск </a:t>
              </a: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неблагополучия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_s142361"/>
            <p:cNvSpPr/>
            <p:nvPr/>
          </p:nvSpPr>
          <p:spPr>
            <a:xfrm>
              <a:off x="1069200" y="2447280"/>
              <a:ext cx="313920" cy="305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_s142362"/>
            <p:cNvSpPr/>
            <p:nvPr/>
          </p:nvSpPr>
          <p:spPr>
            <a:xfrm>
              <a:off x="2224080" y="1580040"/>
              <a:ext cx="314280" cy="169200"/>
            </a:xfr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ahoma"/>
                </a:rPr>
                <a:t>Первичная профилактика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Профилактический «каскад» аддикци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Реабилитация каждой  последующей формы аддикции есть звено профилактическ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4941720"/>
            <a:ext cx="1729080" cy="86364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висимость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ИЗ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4292640"/>
            <a:ext cx="1943280" cy="863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мблинг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3789360"/>
            <a:ext cx="25923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щева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висим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3141720"/>
            <a:ext cx="2592360" cy="79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коголиз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5219640" y="2637000"/>
            <a:ext cx="266400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бакокур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1916280"/>
            <a:ext cx="2448000" cy="863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рком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3068640"/>
            <a:ext cx="2158920" cy="144000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173817"/>
                <a:lnTo>
                  <a:pt x="10718" y="21600"/>
                </a:lnTo>
                <a:arcTo wR="10800" hR="10800" stAng="5426183" swAng="1617381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билитац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нет зависим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это профилакт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мблиг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2843280" y="2133720"/>
            <a:ext cx="2158920" cy="143964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6173817"/>
                <a:lnTo>
                  <a:pt x="10718" y="21600"/>
                </a:lnTo>
                <a:arcTo wR="10800" hR="10800" stAng="5426183" swAng="1617381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абилитац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ищевой зависимости 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то профилакт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лкоголиз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3357720"/>
            <a:ext cx="1513080" cy="1511280"/>
          </a:xfrm>
          <a:custGeom>
            <a:avLst/>
            <a:gdLst>
              <a:gd name="textAreaLeft" fmla="*/ 251280 w 1513080"/>
              <a:gd name="textAreaRight" fmla="*/ 1040040 w 1513080"/>
              <a:gd name="textAreaTop" fmla="*/ 202320 h 1511280"/>
              <a:gd name="textAreaBottom" fmla="*/ 130896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175" hR="21600" stAng="10800000" swAng="-5400000"/>
                <a:lnTo>
                  <a:pt x="11259" y="21600"/>
                </a:lnTo>
                <a:arcTo wR="7175" hR="21600" stAng="5400000" swAng="-2592744"/>
                <a:lnTo>
                  <a:pt x="21190" y="7200"/>
                </a:lnTo>
                <a:lnTo>
                  <a:pt x="16391" y="0"/>
                </a:lnTo>
                <a:lnTo>
                  <a:pt x="10772" y="7200"/>
                </a:lnTo>
                <a:lnTo>
                  <a:pt x="13939" y="7200"/>
                </a:lnTo>
                <a:arcTo wR="7175" hR="21600" stAng="2807256" swAng="2254821"/>
                <a:lnTo>
                  <a:pt x="9217" y="20707"/>
                </a:lnTo>
                <a:arcTo wR="7175" hR="21600" stAng="5737923" swAng="5062077"/>
                <a:close/>
              </a:path>
              <a:path fill="darkenLess" w="21600" h="21600">
                <a:moveTo>
                  <a:pt x="0" y="0"/>
                </a:moveTo>
                <a:arcTo wR="7175" hR="21600" stAng="10800000" swAng="-5400000"/>
                <a:lnTo>
                  <a:pt x="11259" y="21600"/>
                </a:lnTo>
                <a:arcTo wR="7175" hR="21600" stAng="5400000" swAng="337923"/>
                <a:lnTo>
                  <a:pt x="9217" y="20707"/>
                </a:lnTo>
                <a:arcTo wR="7175" hR="21600" stAng="5737923" swAng="5062077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билитац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акокурения 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то профилактик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ркоман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9:33:23Z</dcterms:created>
  <dc:creator>Компьютер</dc:creator>
  <dc:description/>
  <dc:language>en-US</dc:language>
  <cp:lastModifiedBy>1</cp:lastModifiedBy>
  <dcterms:modified xsi:type="dcterms:W3CDTF">2011-10-10T13:14:14Z</dcterms:modified>
  <cp:revision>27</cp:revision>
  <dc:subject/>
  <dc:title>Слайд 1</dc:title>
</cp:coreProperties>
</file>