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7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7D64-D3F2-41A7-BFBD-85B0F6D1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CE4D-93C5-4732-9982-570F03511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C2B7-B194-46EE-B0B5-78883027E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5CA5-9C0E-4BE4-B5AF-684C2D154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47CF-F9AA-40C9-8DF2-F6618B7A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879F-892E-4213-915E-0096B3E3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7E965-0CB7-4603-9F1B-DD0AA494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9AEB-7289-462E-95C7-CDFAEBF2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49C3-5528-4C47-B179-9DC7E6C4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4735C-40EE-47FE-8545-80DC8CC6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23F4-4E4B-462E-94EA-AC706736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6AD3-B834-4601-8B16-29C423509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6EB95-4174-4FFD-94EB-A424BF64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E47C-8B1C-48C8-B0C8-309DC6BC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B42C-96CA-4923-99ED-95C44360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3D9D-0F8F-4194-8574-DD6E7CC0E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FC0D-4618-45A6-B00D-699FBD02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2E80-854E-4DFF-87A2-C252613F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400B-EF9E-4245-9BC4-6ACE98D10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3055-7D2E-4DD0-BA05-B8ADD75A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C098-C492-4862-ADC5-D6797351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0724-FF7E-4D4E-B1A0-E780FD1DD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6CB-A68D-455F-B662-CB9FE5C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478-A683-46F5-B907-5170D9BC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476360" y="6381720"/>
            <a:ext cx="1162080" cy="324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8BC6B-2E5F-46DF-9D0C-F3A49431C276}" type="datetime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626920" y="6381360"/>
            <a:ext cx="5327640" cy="31284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956360" y="6381720"/>
            <a:ext cx="549000" cy="324000"/>
          </a:xfrm>
          <a:prstGeom prst="rect">
            <a:avLst/>
          </a:prstGeom>
          <a:blipFill rotWithShape="0">
            <a:blip r:embed="rId4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BC6D9-CC9F-41DE-8912-E0ECFCB34E1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7B62-336B-4D34-A101-D46EFB0A91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9816-020C-4184-938D-8D8951C1E1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irotinka.ru/images1/3089.jpg&amp;pageurl=http://www.sirotinka.ru%2Fravnovesie%2F2571.html&amp;id=6075301&amp;iid=0&amp;imgwidth=640&amp;imgheight=480&amp;imgsize=51404&amp;images_links=b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anastasia.ru/files/_1192623432.jpg&amp;pageurl=http://www.anastasia.ru%2Fforums%2Fpost_524231.html&amp;id=19577522&amp;iid=8&amp;imgwidth=422&amp;imgheight=523&amp;imgsize=77896&amp;images_links=b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cheba.ru/school-news/pix/uploadFCK/Image/42-16788936.jpg&amp;pageurl=http://www.ucheba.ru%2Fschool-news%2F2539.html&amp;id=22131848&amp;iid=8&amp;imgwidth=304&amp;imgheight=200&amp;imgsize=21157&amp;images_links=b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museum.ru/imgB.asp?14107&amp;pageurl=http://www.museum.ru%2Falb%2Fimage.asp%3F14107&amp;id=31727202&amp;iid=4&amp;imgwidth=600&amp;imgheight=491&amp;imgsize=69982&amp;images_links=b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Tahoma"/>
              </a:rPr>
              <a:t>Тема 5. Профилактическое пространство семьи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158720" y="4657320"/>
            <a:ext cx="3537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ФПО МГУ имени М.В.Ломонос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ршинова В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3429000"/>
            <a:ext cx="3419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нд общественного мн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7632720" cy="4751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Чего больше всего в вашей семье?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д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част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деж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ер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езраз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ч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тал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оча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трудняюсь  ответ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ругое 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720A-2C03-4FFB-B03D-7DA1508FD94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35E13-6B6C-415F-BDBB-26A98E4129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онд общественного мнения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50160" cy="41338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«Чего больше всего в вашей семье?»   Опрос россиян  в 2006 году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476360" y="2076480"/>
            <a:ext cx="6981840" cy="36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1EC6-A255-4852-B5EC-EC421799B8D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0CFA7-4FA3-4805-9AD4-86E12C1694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илактическое пространство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1844280"/>
            <a:ext cx="7562880" cy="3700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илактическое пространство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совокупность родовых предрасположенностей, установок, воспитательных практик, традиций, приоритетов, верований, элементов информационного  и социального окружения, направленных на сохранение единства и сплоченности в семь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се элементы профилактического пространства выстраивают  у каждого члена семьи необходимую обществу, времени и культуре «норму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B4E-7AF9-4C09-9613-FD4B094BD6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84937C-DCD5-4E38-B8BE-8B98D9AC2D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илактическое пространство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2521080" cy="3313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филактическое пространство семьи создается для защиты каждого члена семьи от развития или проявления членами семьи различного рода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7281-99BC-4477-B141-EC3F2AB61A4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4B723-485A-4851-9493-49216C055B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гностика профилактического пространства семьи противостоящее зависимому поведени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обходимо заштриховать участки, отражающие состояния мешающие единству и сплоченности семь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плотнее штриховка тем сильнее воздейств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ем больше заштрихована плотность тем больше членов семьи мешают един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50920" y="1628280"/>
            <a:ext cx="3853080" cy="441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ценности, смыслы стремления (высш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– внешние и внутренние коммуникации (вне конфликтные), образование, профессиональные и общественные достижения членов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психологический климат семьи ( навыки поддержки доброжелательных и спокойных  отношен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– физическое здоровье (режим, питание, нагрузки, отдых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76360" y="4365720"/>
            <a:ext cx="2664000" cy="2158920"/>
          </a:xfrm>
          <a:prstGeom prst="flowChartSummingJunction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92360" y="5084640"/>
            <a:ext cx="36036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00360" y="4581360"/>
            <a:ext cx="36036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11280" y="5877000"/>
            <a:ext cx="432000" cy="503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5084640"/>
            <a:ext cx="358560" cy="576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8893-2600-4E94-BC18-F6348551112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7D2CA9-6B87-4183-8104-18C34BDA16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филактическая антиаддиктивная работа с семьей в школ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40360" y="1600200"/>
            <a:ext cx="4394160" cy="377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4464000" cy="374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718A-9DEB-458B-9FFB-5067C761A5C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43104-6BCA-4D13-A3A9-841CE8EC402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Объединенное профилактическое простран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039040" y="1920240"/>
            <a:ext cx="5137200" cy="2808720"/>
            <a:chOff x="2039040" y="1920240"/>
            <a:chExt cx="5137200" cy="2808720"/>
          </a:xfrm>
        </p:grpSpPr>
        <p:sp>
          <p:nvSpPr>
            <p:cNvPr id="142" name="_s12293"/>
            <p:cNvSpPr/>
            <p:nvPr/>
          </p:nvSpPr>
          <p:spPr>
            <a:xfrm>
              <a:off x="3913560" y="2419560"/>
              <a:ext cx="1389600" cy="1426320"/>
            </a:xfrm>
            <a:prstGeom prst="ellipse">
              <a:avLst/>
            </a:prstGeom>
            <a:solidFill>
              <a:srgbClr val="00ff00">
                <a:alpha val="50000"/>
              </a:srgbClr>
            </a:solidFill>
            <a:ln w="4680">
              <a:solidFill>
                <a:srgbClr val="99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2294"/>
            <p:cNvSpPr/>
            <p:nvPr/>
          </p:nvSpPr>
          <p:spPr>
            <a:xfrm>
              <a:off x="3913560" y="1920240"/>
              <a:ext cx="1389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Пространств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общест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_s12295"/>
            <p:cNvSpPr/>
            <p:nvPr/>
          </p:nvSpPr>
          <p:spPr>
            <a:xfrm>
              <a:off x="4371120" y="3233520"/>
              <a:ext cx="1389600" cy="1426320"/>
            </a:xfrm>
            <a:prstGeom prst="ellipse">
              <a:avLst/>
            </a:prstGeom>
            <a:solidFill>
              <a:srgbClr val="6666cc">
                <a:alpha val="50000"/>
              </a:srgbClr>
            </a:solidFill>
            <a:ln w="4680">
              <a:solidFill>
                <a:srgbClr val="66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2296"/>
            <p:cNvSpPr/>
            <p:nvPr/>
          </p:nvSpPr>
          <p:spPr>
            <a:xfrm>
              <a:off x="5786640" y="4372920"/>
              <a:ext cx="1389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стран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школ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12297"/>
            <p:cNvSpPr/>
            <p:nvPr/>
          </p:nvSpPr>
          <p:spPr>
            <a:xfrm>
              <a:off x="3456000" y="3233520"/>
              <a:ext cx="1389600" cy="1426320"/>
            </a:xfrm>
            <a:prstGeom prst="ellipse">
              <a:avLst/>
            </a:prstGeom>
            <a:solidFill>
              <a:srgbClr val="cc3300">
                <a:alpha val="50000"/>
              </a:srgbClr>
            </a:solidFill>
            <a:ln w="468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_s12298"/>
            <p:cNvSpPr/>
            <p:nvPr/>
          </p:nvSpPr>
          <p:spPr>
            <a:xfrm>
              <a:off x="2039040" y="4372920"/>
              <a:ext cx="138960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Простран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семь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 flipV="1">
            <a:off x="4572000" y="2781000"/>
            <a:ext cx="144000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2492280"/>
            <a:ext cx="1800360" cy="649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ъедин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стран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FB19-A120-41C8-82E4-BE0D70F9DDC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57625F-BBBD-4B3C-A942-0FD92224B9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ение объединенног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илактического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6121440" cy="377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вый ш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цениваем реальную картину профилактического пространство семей уче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ссматриваем профилактическое пространство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имаем условия внешнего профилактического простра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вектор социального давления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236000" y="549360"/>
            <a:ext cx="1047600" cy="140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5066-6783-45D2-BFC7-DA18395C01C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F4FB2-00B5-4921-BBE1-5C211BC546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новные черты воспитания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ростка способствующие защите от зависимого 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91240" cy="2908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ункту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истопл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ганизован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луш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ж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умная доверч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стижение результ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76360" y="1599840"/>
            <a:ext cx="3457800" cy="2908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еренность в се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а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реж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деж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пелив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умная прям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88000" y="260280"/>
            <a:ext cx="1400400" cy="1047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D3D3-8281-40DE-9722-444B9EAA7AB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F4FB32-3849-43A4-A7E0-E82FEC5B24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ение объединенног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илактического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691240" cy="377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торой ш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мечаем наиболее близкие и реальные цели совместного с семьями воспитания каждого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ключаем с каждой семьей взаимно полезный «социальный договор» о достижениях в области воспитания каждого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16720" y="765000"/>
            <a:ext cx="1655640" cy="1513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A882-7573-4EE1-8C4A-2CE959F5026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FCC3B-FD62-41C2-9E87-A479E646E6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Русские пословиц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6048360" cy="2376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Дитя в дом, - Бог в до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Ребенка родили, чтоб отца и мать воспитывал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Жена мужу- пластырь, муж жене – пасты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Когда в семье все вместе, то и душа на мест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Счастье только в семье родитьс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Счастье только в семье  пт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4005360"/>
            <a:ext cx="1625400" cy="201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0499-11FA-45C2-A735-9A50EAC689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80991-F2E6-4DB8-B69D-4B85CA2613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ение объединенног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илактического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4826160" cy="3413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лагаемый Третий ш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вместно со школьной обществен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конкурсной основ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обрать лучшие формы, методы и масштабы работы образовательного учреждения  с учетом  дальнейшего взаимодействия  с семьями учеников  по противодействию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724360" y="836640"/>
            <a:ext cx="2519640" cy="146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F8FA2-9507-4A75-9575-85B3F5DFFD1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31D8A8-0BC9-444C-8FF2-32670F230E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ение объединенног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илактического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330880" cy="3629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лагаемый Четвертый ш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нять наиболее приемлемые методы мониторинга развития воспитательных черт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сти постоянный мониторинг воспитательных достижений учащихся силами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981000"/>
            <a:ext cx="208728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3E9F-AE7A-415D-B5CC-43BEBB9A846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6CB6F-4F7F-4BEA-81DB-1D56F97C44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строение объединенного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филактического простран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5042160" cy="4133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едлагаемый Пятый ша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влечь через проектную работу учащихся родителей для активизации воспитательной работы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влечь школьную общественность к проведению ежегодных итоговых мероприятий воспитательных достижений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77080" y="1052640"/>
            <a:ext cx="1452600" cy="242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F2E5-F1A6-4A8A-9338-B31D3517B321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9B1661-6C5B-448F-AD74-9B1D59F09C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зультат работы школы и семь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5543280" cy="3773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филактическое пространство семьи как  многоуровневое, многогранное психолого-социальное яв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ируется за счет становления устойчивого развитие семь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588000" y="1484280"/>
            <a:ext cx="1800360" cy="132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9C4-E06E-433C-8119-54F5AEBF43D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6C331-904F-47D0-977D-CB94A3E78F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1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403280" y="1628640"/>
            <a:ext cx="6048360" cy="440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0F2C-A234-43C6-9BDF-A6426F0082ED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96738-3CCB-4EB6-97BC-579E3D1F3E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1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04216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C08F-02E5-4821-910F-36618EAB3917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62915-1F3D-4336-8470-CD9C937949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"/>
              </a:rPr>
              <a:t>2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116000" y="1844640"/>
            <a:ext cx="7416720" cy="3745080"/>
            <a:chOff x="1116000" y="1844640"/>
            <a:chExt cx="7416720" cy="3745080"/>
          </a:xfrm>
        </p:grpSpPr>
        <p:pic>
          <p:nvPicPr>
            <p:cNvPr id="178" name="" descr=""/>
            <p:cNvPicPr/>
            <p:nvPr/>
          </p:nvPicPr>
          <p:blipFill>
            <a:blip r:embed="rId1"/>
            <a:stretch/>
          </p:blipFill>
          <p:spPr>
            <a:xfrm>
              <a:off x="1116000" y="1844640"/>
              <a:ext cx="7416720" cy="37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 txBox="1"/>
            <p:nvPr/>
          </p:nvSpPr>
          <p:spPr>
            <a:xfrm>
              <a:off x="1116000" y="1844640"/>
              <a:ext cx="7416720" cy="374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E49A-B8DA-4C18-B082-354845A1E27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1C0EF-EE83-46EC-986F-58ECE35DE5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2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771640" y="1557360"/>
            <a:ext cx="5257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7DC2-CB08-49BD-B449-8AE24F608BC2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AB967-D3C4-45DC-A45D-EFAE739921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1120" y="44460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24000" y="1413000"/>
            <a:ext cx="4362480" cy="47624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340000" y="26028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76D-187D-4CD4-93A3-6C9B6EB36126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0843E0-B7FE-4D31-9E34-366D22EFC5A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"/>
              </a:rPr>
              <a:t>3.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3559320" cy="42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4A11-3ADE-4D4D-A1B0-602DF3AFF8CE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F8DC80-496D-4019-87F7-2C9FA4AD256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временная семья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1916280"/>
            <a:ext cx="6913800" cy="4681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кое снижение и изменение семейного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инство семей живет в городах (не имея своего дома с земельным участко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спутника жизни не основывается на опыте старшего поко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чезли многопоколенные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стет количество разв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илились отрицательные проявления внутри семьи: алкоголизм, наркомания, физическое и психическое насилие между членами семь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огие семьи не признают религ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0"/>
            <a:ext cx="1873080" cy="15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698C-7EAA-402E-9B4D-3EBD4506B5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FA544-6137-4559-AC79-324EB41C88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4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826160" cy="349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1118-1A5F-4CE6-947F-54598655BFC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D18119-D03A-4DA2-B5C7-AABD3DE873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4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419640" y="2637000"/>
            <a:ext cx="4679640" cy="345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E7A0-44E4-4270-826C-E30064B93BBD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73ECB9-91B1-4C33-8DEF-F433517304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5.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583416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B0C-EDC3-40BF-B393-BFAF7EEC12D6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AC2950-2B8E-4D8F-8A45-28371E28D5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"/>
              </a:rPr>
              <a:t>5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95640" y="1557360"/>
            <a:ext cx="3113280" cy="37432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2462040" cy="30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0AC-BF02-4E6D-9FBB-5287ABC21F94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BE34B7-9DA4-4CC2-AE8D-EFBCED35D9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пасибо за вним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2B46-BA35-4E06-92A0-2AFF71CA87EA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F52F6A-C02D-4A37-B562-CC0FFB1D07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Современная семья  и ее дети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128000" cy="345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иболее распространена нуклеарная семья родители с одним ребенком или двумя деть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остранено прерывание берем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ко возросло число неполных семей,  в следствии развода или рождение внебрачного ребенка, где один родитель чаще мать воспитывает ребе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явление искаженных деформированных семей, где воспитываются дети отчимами и мачех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873080" cy="1527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DFB-C066-4BC6-97E1-45CA0CBA37D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09B4E-CBCF-4C25-80D3-98C44AEAEF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филактическое пространство школы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 целью предотвращения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ависимого поведения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52600" y="1770120"/>
            <a:ext cx="3695760" cy="421776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благополу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соци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300360" y="1773000"/>
            <a:ext cx="792360" cy="42274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р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48360" y="1773360"/>
            <a:ext cx="1152360" cy="4248000"/>
          </a:xfrm>
          <a:prstGeom prst="rect">
            <a:avLst/>
          </a:prstGeom>
          <a:solidFill>
            <a:srgbClr val="66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Риск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развит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неблаг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получ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66"/>
                </a:solidFill>
                <a:latin typeface="Tahoma"/>
              </a:rPr>
              <a:t>семь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93DA-26B1-4AB3-B79A-26ED3F1EEA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4A4D1-BC17-405F-B73E-67CF30D184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ипы семей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особствующих появлению «трудных»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5907240" cy="34844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мья с недостатком воспитательных ресур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фликтные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равственно неблагополучные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дагогически некомпетентные семь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1A75-1575-4A8B-BF2E-2ADCC4E5FD3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3B584-F10B-4188-B672-C431B141C3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гативные факторы семейного воспитания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пособствующие появлению «трудных»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6338880" cy="3773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адекватное воздействие факторов материального 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духовность родителей авторитаризм либо «либерализм», безнаказанность и всепрощен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утствие нормального психологического климата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зграмотность семьи в педагогическом отношении противоправное поведение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зросл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093080" y="4437000"/>
            <a:ext cx="1428480" cy="12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4C8-4BA5-437B-A59E-7092BE13897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7AA155-29B8-4928-86A1-77DD064C56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благополучные стили воспитания в семье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едущие к отклонениям поведения у ребен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834160" cy="33415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еропека различных степен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пооп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туация, создающая «кумира»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туация, создающая «Золушек» в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659640" y="472428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764-9AB6-4CD5-B6E0-2E309A9858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0A4F1-7BCD-481E-92FA-A2131CF07C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итуации, приводящие к семейным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сихическим травмам у дет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5691240" cy="38448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фликты в 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ок любви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мерть одного из н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дительскую жесток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последовательность в воспитан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хождение в детском до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77080" y="4149720"/>
            <a:ext cx="1428840" cy="12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D734-2626-4126-9B92-417AA605E3D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0F7899-19F9-42AF-950B-210A7EC9FE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06:55:21Z</dcterms:created>
  <dc:creator>Пользователь</dc:creator>
  <dc:description/>
  <dc:language>en-US</dc:language>
  <cp:lastModifiedBy>1</cp:lastModifiedBy>
  <dcterms:modified xsi:type="dcterms:W3CDTF">2011-10-17T13:29:54Z</dcterms:modified>
  <cp:revision>16</cp:revision>
  <dc:subject/>
  <dc:title>Профилактическое пространство семьи</dc:title>
</cp:coreProperties>
</file>