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10E9-AB7C-4B84-876B-04222943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C2B-92D7-450D-A219-F5988A35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5C8-4157-464B-8169-30C653CE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6EC-E9CD-448D-B954-0E3BB343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6EC3-6FD4-460D-8CE8-0D8A5077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5981-6CED-4B17-BD09-E62524FB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6F20-D0DC-4AF0-B16C-E25563A2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AE7F-B9EB-4E3B-9CC5-12BF856D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04AF-B631-4961-96DC-87419807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278A-F302-4B78-B259-A5B6D8A7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FCD4-FB89-42BC-B861-4E39AF55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1EA-DA38-4704-9125-4C7B23F9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9CAA-F25B-4DBC-9642-E3EB5A0B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E0FD-2850-41E3-AF67-1A3E31EB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EF43-29FB-4E8B-AD15-E95FEB7C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A707-5B70-4BBA-82DA-6B5DF6CD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FA52-8477-45EF-81C2-DE661517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7D594-B070-43AF-81E8-FDAFA954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99C33-ABD2-400F-812C-24D2F216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8B8F4-3A7A-4E45-9413-22E7DA56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83A5F-820D-427E-8901-C744EF69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B934F-424D-474F-8AB3-B90F6262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6B9-A269-412A-8D16-A0014F75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F1A0F-B84A-4194-9462-4F853F42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B746F-EDDD-4AC6-BAF7-B9C27E10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066C5-24AA-4C10-8521-8F28B658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F204C-9B97-4A94-97AF-F8722EE1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7E83F-36CF-40BD-80E7-F065C7D4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061C8-BAAA-4068-955F-B1B7251A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DFEC3-A938-4CA4-A4DA-132C3240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E390-38BD-4AAF-A122-7D295122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3A10B-A1CC-4ED9-A32C-3312A745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9C2DD-1F07-436E-9D47-2BCEF60A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DF06-4ACC-4537-9A28-1415D276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417DC-2427-4F96-938C-46C23B16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5BBC9-F26D-4B9E-90AD-6FB74C5F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CB414-6EDE-4D64-A815-03653774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E9B78-E750-4E20-8B57-28C3845B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528EA-DA84-4892-B460-DD4BAAFC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CA47B-2918-4DA0-9181-104E7336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47FD0-050D-43D7-B818-2C6F4D95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D591A-2E2D-43F9-ABE3-76D6360F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3675D-0E90-4AA9-8FB3-C2F13393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AD1C-AC33-4CC8-8EB5-94946DBE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4FE0-3FE0-4E1B-901F-2C1F7D6B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4EB-4907-4513-8E0A-18163616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97C4-21FE-4297-9186-1B8DBCAC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D7B-D20F-447C-AA2F-150E7A2A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9039-B03B-45C9-B12E-395AB59D5EE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3B35-0203-45A7-8381-8B17835ED14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A13F-80E8-436F-A543-5954BC2105D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830D-B634-41F3-93F2-3C3B312B5BC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234936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Основные идеи воспитания в концепции К. Роджерс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3564000" y="5445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полнили: Коновалова Елизавета и Реутова Яна, ФИЯР, 4 курс, 2 год обучения ФПО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ключе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кцент Роджерса на безусловном позитивном внимании как на идеальном подходе к воспитанию ребенка не подразумевает отсутствие дисциплины, социальных ограничений или других форм контроля поведения. Подобный подход означает создание атмосферы, в которой ребенка ценят и любят просто за то, что он есть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оворя коротко, Роджерс полагал, что воспитание детей с безусловным позитивным вниманием обеспечивает основу для их становления как полноценно функционирующих взрослых. Безусловное позитивное внимание к себе раскрывает естественную тенденцию к самоактуализации, присутствующую в каждом человек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спользуемая 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икипедия, биография Карла Роджерса,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lt;http://ru.wikipedia.org/wiki/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оджерс,_Карл_Рэнсом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ебник «Психология семейных отношений с основами семейного консультирования», глава 18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lt;http://bugabooks.com/book/145-psixologiya-semejnyx-otnoshenij-s-osnovami-semejnogo-konsultirovaniya/18-osnovnye-idei-vospitaniya-k-rodzhersa.html&gt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изовая Т. Н., Педагогические идеи К. Роджерса в современной теории и практике обучения и воспитания в США,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ttp://www.dissercat.com/content/pedagogicheskie-idei-k-rodzhersa-v-sovremennoi-teorii-i-praktike-obucheniya-i-vospitaniya-v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уманистическая модель семейного воспитания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http://psylist.net/family/00026.htm &gt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арл Рэ́нсом Ро́джерс (1902 – 1987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557360"/>
            <a:ext cx="43383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нгл. Carl Ransom Rogers, американский психолог, один из создателей и лидеров гуманистической психологии (наряду с Абрахамом Маслоу). Фундаментальным компонентом структуры личности Роджерс считал «я-концепцию», формирующуюся в процессе взаимодействия субъекта с окружающей социальной средой и являющуюся интегральным механизмом саморегуляции его (субъекта) поведения (1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Содержимое 4" descr="2501_301.jpg"/>
          <p:cNvPicPr/>
          <p:nvPr/>
        </p:nvPicPr>
        <p:blipFill>
          <a:blip r:embed="rId1"/>
          <a:stretch/>
        </p:blipFill>
        <p:spPr>
          <a:xfrm>
            <a:off x="4716360" y="1413000"/>
            <a:ext cx="389124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Вклад в Гуманистическую педагогику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4000" y="1628280"/>
            <a:ext cx="5292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витие идей Карла Роджерса относительно воспитания принадлежит ко второй половине XX века и рассматривается в рамках гуманистической педагогики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Базовыми принципами и методами психотерапии К. Роджерса являются принятие ребенка, безусловная любовь, эмпатия, психолого-педагогическая поддержка и пр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ажнейшими понятиями модели семейного воспитания Роджерс считал проявление искренних, истинных чувств (и позитивных, и негативных) всеми членами семьи; безусловное принятие своих чувств и чувств близких; преданность своему внутреннему Я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Содержимое 4" descr="Rogers1.jpg"/>
          <p:cNvPicPr/>
          <p:nvPr/>
        </p:nvPicPr>
        <p:blipFill>
          <a:blip r:embed="rId1"/>
          <a:stretch/>
        </p:blipFill>
        <p:spPr>
          <a:xfrm>
            <a:off x="611280" y="1916280"/>
            <a:ext cx="27939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сновные идеи воспит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0920" y="155700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ьская любовь имеет разные уровни — это любовь-забота о телесном благополучии ребенка и любовь-забота по отношению к его внутреннему Я, к его способности принимать индивидуальные реше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должны стремиться оказать влияние на ценности и убеждения детей, оставляя за ними свободу выбора конкретных действий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тиль общения в семье должен быть основан на открытости, свободе, взаимном уважени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ужно научить ребенка самостоятельно справляться с проблемами, постепенно передавая ему ответственность за поиск и принятие реше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должны научиться принимать помощь от детей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отребность в позитивном внимани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9280" y="1553760"/>
            <a:ext cx="896472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ля любого человека важно, чтобы его любили и принимали другие. Впервые это проявляется как потребность младенца в любви и заботе, а впоследствии выражает себя в удовлетворении человека, когда его одобряют другие, и фрустрации, когда им недоволь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сли человек считает, что он удовлетворяет потребность позитивного внимания у других людей, то он непременно чувствует удовлетворение своей собственной потреб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258920" y="3645000"/>
          <a:ext cx="6313320" cy="2743200"/>
        </p:xfrm>
        <a:graphic>
          <a:graphicData uri="http://schemas.openxmlformats.org/drawingml/2006/table">
            <a:tbl>
              <a:tblPr/>
              <a:tblGrid>
                <a:gridCol w="1716120"/>
                <a:gridCol w="2311200"/>
                <a:gridCol w="228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зитивное вним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усло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езусло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 друг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словия ценности: в обстоятельствах, желаемых други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ни рады мне всегда: за то, какой я 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 себя с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зитивно рассматривать себя от того, что я дел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вои собственные ценности: доверять себе всег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Условное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VS 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безусловное позитивное внимани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ычные родители позитивно относятся только к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желаемому для них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поведению ребенка.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словия ценности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— обстоятельства, при которых дети будут переживать позитивное внимание — 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«Я буду любить, уважать и принимать тебя только в том случае, если ты будешь таким, каким я хочу тебя видеть»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 Требования, предъявляемые другими — ребенок сделает почти все,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же если ему это не нравится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чтобы удовлетворить потребность позитивного внимания — запоминает, что если будет действовать неправильно или неприемлемо с точки зрения родителей, то его 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не будут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ценить и любить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езусловное позитивное вним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— можно дать или получить позитивное внимание независимо от ценности конкретного поведения человека — человека принимают и уважают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а то, какой он есть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 Единственный способ не вмешиваться в тенденцию к актуализации ребенка – это дать ему безусловное позитивное внимание. Наилучшей родительской стратегией в отношении ребенка, который ведет себя нежелательным образом, будет сказать ему: 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«Мы очень тебя любим, но то, что ты делаешь, огорчает нас, и поэтому лучше бы ты этого не делал»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 Ребенка всегда следует любить и уважать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озитивное внимание к себ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 временем и взрослением структура Я становится для самой себя «значимым социальным другим» — людям необходимо позитивно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ссматривать, оценивать себя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: удовлетворением при одобрении и неудовлетворением при неодобрении себ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витие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зитивного внимания к себ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гарантирует, что человек будет стремиться действовать так, чтобы и другие, и он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ам одобрительно отзывались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о его поступках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огда дети воспринимают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бя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так, что никакое самопереживание не является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олее или менее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тоящим позитивного внимания, они переживают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езусловное позитивное внимание к себ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 Это, в свою очередь, позволяет им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звивать свои собственны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ценности и удовлетворение в соответствии с их реальными переживаниями,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езависимо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от «одобрения» других. Хотя они сознают существование определенных ожиданий относительно того, что им «следует» делать, они будут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оверять себ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и своим суждениям, а не поддаваться требованиям, существующим вне их самих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азвитие психологической зрелости у ребенк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Условие ценности по отношению к ребенку причиняет ущерб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его становлению как полностью функционирующего человека по той причине, что ребенок пытается соответствовать стандартам других, главным образом стандартам родителей, а не определить для себя, кем 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н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хочет быть. Люди с условиями ценности должны ограничивать свое поведение и искажать реальность, потому что 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даже просто осознанные мысл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о запрещенном поведении могут быть столь же 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угрожающим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как и его проявлени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оджерс считает состояние 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соответствия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«Я» (хочу, нравится) и переживаемого опыта (делаю что нравится им) наиболее серьезным препятствием в развитии психологической зрелост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спитание детей с безусловным позитивным вниманием обеспечивает основу для их становления как полноценно функционирующих взрослых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 мнению К.Роджерса, для позитивного взаимодействия с Детьми родителям необходимы три основных умения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ышать, что ребенок хочет сказать родителям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ражать собственные мысли и чувства доступно для понимания ребенка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лагополучно разрешать спорные вопросы, так чтобы результатами были довольны обе конфликтующие стороны (4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8:48:23Z</dcterms:created>
  <dc:creator>lenovo</dc:creator>
  <dc:description/>
  <dc:language>en-US</dc:language>
  <cp:lastModifiedBy>lenovo</cp:lastModifiedBy>
  <dcterms:modified xsi:type="dcterms:W3CDTF">2012-10-21T10:14:12Z</dcterms:modified>
  <cp:revision>13</cp:revision>
  <dc:subject/>
  <dc:title>Основные идеи воспитания в концепции К. Роджерса</dc:title>
</cp:coreProperties>
</file>