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1139-0682-49A4-94ED-1729BFB0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0E4-C6F1-469F-A8A0-B8248304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A93-B11D-4714-8E5C-8881B94E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692-D981-4627-8B64-A27FF248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4B12-4C64-4CA4-80AE-B30C99C9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8688-2A62-49D1-A0F4-3E559C5C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A30-18D8-4A59-B6CB-BA9811C8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E53-1535-4999-BF05-2D4A7B54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518D-FBF1-4A86-AEB1-4E6CAAF9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CBA-8BAB-4205-89C1-A3DF456E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020-FE19-48AE-9A0F-17F0A97F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D23-20F5-4860-A9DB-9C350D1A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7C53-46FD-4086-B1A7-3913BA810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идеи воспитания в концепции К. Родже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жерс К. Р. Взгляд на психотерапию. Становление человек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ейджер Р., Фэйдимен Д. Теории личности и личностный рост (глава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ьелл Л., Зиглер Д. Теории личности (гл.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л Родже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…единственный смысл преподносимого мною взгляда таков: человек по сути своей добр и движется в направлении самореализации , если только ему предоставить такую возможность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57680" y="2428920"/>
            <a:ext cx="22194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ореализация как фундамент ли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Роджерсу, человек, наблюдая и оценивая свой собственный опыт, познает самого себя. При этом жизненный опыт человека является неотъемлемой частью его «я» и лучше всего может быть известен только ему сам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нденция к самоактуализации присуща любому живому организму. Самоактуализация — это стремление живого существа к росту, развитию, самостоятельности, самовыражению, активизации всех возможностей своего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Я» и «Я»-идеально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«я»-концепц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Я»-идеальное — это «я»-концепция, которой индивид больше всего хотел бы обладать, тот мысленный образ, которому он хотел бы соответствовать». «Я»-идеальное представляет собой структуру, которая также постоянно трансформируется и меняет свое определение.. Если у человека «я»-идеальное сильно отличается от «я»-реального, он чувствует психологический дискомфорт, неудовлетворенность, у него может развиться невроз. Признаком психического здоровья является способность адекватно воспринимать себя и чувствовать себя комфортно. «Я»-идеальное — это идеальная модель, к которой человек стремится. И наоборот, если «я»-идеальное сильно отличается от реального поведения человека и его системы ценностей, то оно может стать препятствием на пути к личностному развит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колько идеальное «я» отличается от актуального или реального «я», настолько это отличие мешает здоровью личности и развитию. Человек может чувствовать неудовлетворенность, дискомфорт и испытывать невротические трудности, если это несоответствие чересчур вели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-концепция и конфликты, с ней связа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дение человека согласуется с его Я-концепцией; человек стремится сохранить состояние согласованности самовосприятия и пережи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живания, находящиеся в соответствии с Я-концепцией человека и его условиями ценности, могут сознаваться и точно восприним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живания, находящиеся в конфликте с Я и его условиями ценности, образуют угрозу Я-концепции; они не допускаются к осознанию и точному восприят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мехи в развит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льное расхождение между  Я-концепцией и реальным опытом приводит к конфликт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ребование признания заслу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звитие ложного образа «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Требование признания засл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«Таким образом, мы видим базовое отчуждение в человеке. Он не относится искренне к себе самому, к собственной органичной оценке переживаний и, для того чтобы сохранить позитивную оценку других людей, фальсифицирует какие-то осознанные им ценности и рассматривает их только с точки зрения привлекательности для окружающих. Это все же не сознательный выбор, а вполне естественное — и трагичное — следствие детского развит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мере того как ребенок начинает осознавать свое «я», у него или у нее растет потребность в любви или позитивном отношении. Так как дети не отделяют свою личность от поступков, они зачастую реагируют на похвалу за правильное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действ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к, как если бы хвалил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х сам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Сходным образом они реагируют на наказание, так как если бы это было неодобрение их личности в цел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едение и отношения, отрицающие какие-то аспекты «я», называютс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ребованиями признания заслу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обные требования считаются необходимыми для ощущения собственной ценности и завоевания любви. Однако они не только препятствуют свободному поведению человека, но и мешают развитию и осознанию им собственной личности; приводят к развитию несоответствия и даже ригидности лич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Развитие ложного образа «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да ребенок взрослеет и его личность развивается, проблема может оставаться. Развитие личности осложняется отрицанием фактов, противоречащих искусственно созданной «хорошей» «я»-концеп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того чтобы сохранить ложный образ «я», ребенок продолжает искажать собственные переживания. Чем больше искажение, тем больше шансов у ребенка совершить ошибку и столкнуться с дополнительными проблемами. Первоначальные искажения в результате могут проявиться в спутанности поведения, ошибках и смущ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ент  Роджерса  на безусловном позитивном внимании как на идеальном подходе к воспитанию ребенка не подразумевает отсутствие дисциплины, социальных ограничений или других форм контроля поведения. Подобный подход означает создание атмосферы, в которой ребенка ценят и любят просто за то, что он есть. Когда дети воспринимают себя так, что никакое самопереживание не является более или менее стоящим позитивного внимания, они переживаю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езусловное позитивное внимание к себ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, в свою очередь, позволяет им развивать свои собственные ценности и удовлетворение в соответствии с их реальными переживаниями, независимо от "одобрения" других. Хотя они сознают существование определенных ожиданий относительно того, что им "следует" делать, они будут доверять себе и своим суждениям, а не поддаваться требованиям, существующим вне их самих. Говоря коротко, Роджерс полагал, что  воспитание  детей с безусловным позитивным вниманием обеспечивает основу для их становления как полноценно функционирующих взрослых. Безусловное позитивное внимание к себе раскрывает естественную тенденцию к самоактуализации, присутствующую в каждом челове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1:33:21Z</dcterms:created>
  <dc:creator>Артем</dc:creator>
  <dc:description/>
  <dc:language>en-US</dc:language>
  <cp:lastModifiedBy>Артем</cp:lastModifiedBy>
  <dcterms:modified xsi:type="dcterms:W3CDTF">2012-10-26T12:49:56Z</dcterms:modified>
  <cp:revision>2</cp:revision>
  <dc:subject/>
  <dc:title>Основные идеи воспитания в концепции К. Роджерса </dc:title>
</cp:coreProperties>
</file>