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3C1BE-041B-4F3B-836A-A01399F9BF6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045EB-4E49-43A7-B656-DDA23453436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29CC7-11C5-49FD-8BFF-DF0C6BDFAC5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9B8BC-7DEC-492A-A721-C5AB632D0CB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F1AE2-047E-44DC-AC20-F8F16027C1C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EF42A-EC2B-442A-BA43-4986750C6B1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768CF-4CBB-475A-A04F-5A19FB2AD7A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8152E-018D-49B9-A941-49801C71D8C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21155-CBEE-4901-A6CD-CF9F792A732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3EC2-B7B8-4B9E-8F41-392ECC370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1484-3067-43F2-9CC5-3730D3D79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74C5-706B-4004-8967-114891E2A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F0BB-F70F-4FF5-B3F6-FA71C07C8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C5E0E-6E61-4A5D-8952-AAD329131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7C7B0-4F86-47E0-BD27-49354F2C6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9F75E-3733-4EB1-BE11-84CDA60AB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50B0D-050D-4814-A1AB-1F3ABCB99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EA2FF-3B27-4A21-9C64-5BC5C97EF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36FCE-4E51-4A96-998A-A8352DB78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7A834-E96F-494B-811C-6568149B2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05BD-86E0-4E43-8E05-7821201CF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D1392-D346-4033-BC7B-A5018D4D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C17FD-E732-40F9-93B2-8DAB3BD0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3E101-E10E-420E-8985-9D0AD29FD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C8A04-6CC5-4F13-AB23-1F45F47CC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EC017-2A5A-4BA4-97DF-80A6CE643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13183-12AC-42C1-95CD-05FE2E7A4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DF41E-4706-432D-B9A8-4EF3DEEB6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C404F-148B-4121-87BA-C63AB6164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82726-8ECD-4AF9-9418-8B108D14B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F7C9E-48C0-4069-8350-88C387B6A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2B85-2563-49E4-9093-3358EE518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5E882-94B0-4698-A34C-9A4364D74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02853-9CA8-41C4-8473-302637B8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1B278-82D3-439D-95DA-B73CEECF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8D42B-6D9A-4E45-963A-EB948A2C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8FF93-3F7B-4163-856A-6037F412B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35BD2-D5EC-4942-B23C-45E7AEA49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12F5E-412B-40F5-84A6-F6DD72342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46989-5B90-4A2E-A5F6-3369F1E87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67DFE-B364-40EE-A061-E65D68B35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F0B7B-10AA-442B-991B-5FB960A18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A0B5-EBD0-427A-B5A5-4670DC6CE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816FC-48E2-4EC3-B653-A680BB93B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4F8E8-E865-45BA-B635-52CF716EB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0DA6D-FBAA-4C68-9D72-D6754C7BE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1B30B-1DFC-4F76-AFA3-495B1927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384B4-2B2D-4D76-9DA7-56629FE1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EDCEB-BB22-40DD-A6C3-8004DC47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B0FD5-7CD7-412F-9BCC-EF438FC52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B08B7-603C-4EE5-A4A3-89C864F03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62DB0-839C-477D-9101-A7F6316B6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8C7047-7805-477F-A12A-5630176B1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FD7B-BE78-42DF-BBB8-C38AAF4C9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29546-0F85-4BD6-A7B3-E14FA1CFD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44F01-7BE6-477A-8F3B-568660B52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6A2FF-EF5B-49C8-90D9-DA2626A59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D2C382-3498-4205-9DC2-33D72B086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81A2C-1F42-493A-BD7F-705908863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E37C3-2D9A-46F4-8959-15369505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D3C99-2751-4501-B5AB-8F439531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7E9A6-5646-4894-8872-07455203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0A0F5-DBC9-4759-85D7-F094E2904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E9BCA-5AAB-4DC3-B240-5BAED18FC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F3C2-74C4-4A08-8717-CB3AA7FB7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A0D8D-2A8D-4E2B-A2B6-850D2A052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C2B71-629A-438F-9B5D-0DBCAE6AB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DDC08-3945-46BA-921F-673060A39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B40F5-2C33-46D2-8D80-9C5C0473C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48260-9CD7-49BF-A497-850ECA881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EE8C9-35A4-4FA2-9337-1CA1BE26D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36CEE-DBC8-4FED-A1F0-F277A91D3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DE4C8-30F3-4EA6-9D3C-0FA440AA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3FA4B-47A4-4F1A-9F87-AFE5199F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2685B9-E6B3-4040-9C73-13DF75B4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BCAF-77B7-439F-B757-5848F312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ED911C-B360-4F66-AB0E-F2F99927B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84A43-2360-4EE9-979C-BBE70B1A1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5C0A6D-D0A6-42F8-AADE-1D230D753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B74309-C772-40CD-AC9B-F0FAB4BBE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75A89-9C4A-4DEC-AC00-B70A9065D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BFD195-10CB-40BF-8444-46BCDB516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7A9723-36A1-4D05-843B-3A7A9588A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99112-3ECB-4525-B751-0B86C4BA3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649E31-3C6C-4A00-A742-D7703C611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0BC28D-2E5C-49CD-B703-8EB84856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8912-E75E-4177-BDED-0C5CA431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0D3252-B105-496D-A30E-07204E44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26477-FFE9-4104-8A46-67F4D992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4A7496-CBC0-4BC4-A2F6-E81E08870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B64CAC-6FD6-413B-BFC5-06A2EB29B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E44E91-A383-4A31-8364-EF92B4A7F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8AF3-2331-46BD-9964-BFFDE370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19A5D-A8EF-4699-BECF-FC1E0D930AF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D06CD-073A-4A70-B340-042D1160081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2FF1C-65D3-4B3C-8E1C-635AB9E5CFC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81E8E-4F85-43FE-8B13-43DCC52AEB2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E71E4-A5A1-4F74-97BF-A0F4F33C185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A9BE2-EFBC-4C6F-A65A-9DA178BC61D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F71DE-2C1E-40F6-B620-CF141666AD0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Уровни, виды и психологические закономерности супружеской совместимости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714680" y="4357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Белалетдинова Асия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Экономический факультет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магистратур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Основные подходы к проблеме супружеской совместимости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928440" y="1599840"/>
            <a:ext cx="80010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04000" indent="-504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1. Структурный подход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04000" indent="-5040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rbel"/>
              </a:rPr>
              <a:t>Совместимость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- соответствие личностных и индивидуально-типологических характеристик партнеров.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504000" indent="-504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Схожие ценностные ориентации, социально-психологические, коммуникативные установки, мотивы, интересы.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504000" indent="-504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Определенные типологические особенности могут сочетаться по контрасту.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504000" indent="-504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Сходные и контрастные характеристики должны в совокупности обеспечивать устойчивую и эффективную структуру взаимодействия супругов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504000" indent="-504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Основные подходы к проблеме супружеской совместимости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999720" y="1599840"/>
            <a:ext cx="792972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04000" indent="-504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2. Функциональный подход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04000" indent="-504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rbel"/>
              </a:rPr>
              <a:t>Совместимость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- мера согласованности ролевых моделей поведения, обеспечивающая высокую эффективность функционирования семьи, удовлетворения потребностей ее и всех ее членов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504000" indent="-504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rbel"/>
              </a:rPr>
              <a:t>Комплементарный брак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– такой союз, в котором каждый из супругов занимает то положение, какое он имел по отношению к братьям или сестрам в родительской семье.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504000" indent="-504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rbel"/>
              </a:rPr>
              <a:t>Некомплементарный брак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– брак партнеров с одинаковой порядковой позицией в родительской семье.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Основные подходы к проблеме супружеской совместимости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999720" y="1600200"/>
            <a:ext cx="792972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3. Адаптивный подход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rbel"/>
              </a:rPr>
              <a:t>Совместимость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- позитивные межличностные отношения, хорошее взаимопонимание и эффективное общение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Подразумевает толерантность, высокую степень терпимости к особенностям поведения и личности друг друга, готовность принимать супруга таким, какой он есть.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Характеризуется степенью супружеской адаптации и взаимного приспособления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1000080" y="357120"/>
            <a:ext cx="7686720" cy="62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rbel"/>
              </a:rPr>
              <a:t>Совместимость  –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эффект сочетания и взаимодействия индивидов, который характеризуется максимальной субъективной удовлетворенностью партнеров друг другом при значительных эмоционально-энергетических затратах.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rbel"/>
              </a:rPr>
              <a:t>Несовместимость –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антипод совместимости отличительными особенностями которой являются отчуждение и «психическое насыщение» друг другом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Уровни совместимости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000080" y="1600200"/>
            <a:ext cx="7786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88520" indent="-488520" algn="just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Высший – ценностно-ориентационное единство, совместимость жизненных ценностей, устремление, идеалов, интересов, убеждений;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88520" indent="-488520" algn="just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Согласованность функционально-ролевых ожиданий, представлений человека о своих ролях и функциях в данном союзе;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88520" indent="-48852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Совместимость индивидуально-психологических характеристик людей: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а) психофизиологическая совместимость темпераментов;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б) совместимость врождённых психотипов;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88520" indent="-488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оказатели наличия совместимости в супружеском союзе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000080" y="1885680"/>
            <a:ext cx="768672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гласованность семейных ценностей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гласованность ролевых ожиданий в отношении целей и ролевых моделей поведения супругов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впадение взаимных оценок супругов выполнения каждым из них своих семейных ролей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инятие личностных и поведенческих особенностей партнера, готовность учитывать их в сотрудничестве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1440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Спасибо за внимание!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6T11:57:36Z</dcterms:created>
  <dc:creator>Асия</dc:creator>
  <dc:description/>
  <dc:language>en-US</dc:language>
  <cp:lastModifiedBy>Асия</cp:lastModifiedBy>
  <dcterms:modified xsi:type="dcterms:W3CDTF">2012-10-26T13:07:44Z</dcterms:modified>
  <cp:revision>8</cp:revision>
  <dc:subject/>
  <dc:title>Слайд 1</dc:title>
</cp:coreProperties>
</file>