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DE6A-8913-4C9A-80A2-D52BA9517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0A48-48C2-46DE-AEB4-296D4AC3F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FE9D-785D-472F-8500-69F4AC7F2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D711-117A-4A6A-8E3E-8CE569B34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7DB4-E8B1-4CB0-9293-8DB046A48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7ECF-6C8F-4267-AB8E-BB3E3290E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CDD2-4AF5-432F-9D87-AF3A7937A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9697-3F66-4AAD-9AA7-C4290E1F1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E2A7-DEF4-464A-AFB3-311C87353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CCFE-0554-4DB6-B429-847AD9D2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AF7C-C757-4F0E-BCBE-7432E7D1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CE16-6CBA-4742-AD74-077F74F7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AF220-0AD4-4872-A80D-5A876D98B1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рачно-семейная адапт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19280" y="400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или: Гришакина Е.А. студент 4 курса Географического факультета МГ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узьмина А.С. студент 5 курса Химического факультета МГ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процессе адаптации выделяется два уровня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иологический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собность приспособления организма к устойчивым и изменяющимся условиям физической сред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сихологический 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способление человека как личности к существованию в обществе с требованиями данного общества и с собственными потребностями и интерес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рачно-семейная адапта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постепенный процесс приспособления супругов друг к другу и к семейной жизни, результатом которого должно быть формирование устойчивого семейного уклада, распределение бытовых и психологических ролей, выработка приемлемого стиля общения друг с другом, выработка приемов разрешения и профилактики конфликтов и разногласий, определение взаимоотношений с микроокружением по типу открытой или закрытой групп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zawaag6471"/>
          <p:cNvPicPr/>
          <p:nvPr/>
        </p:nvPicPr>
        <p:blipFill>
          <a:blip r:embed="rId1"/>
          <a:stretch/>
        </p:blipFill>
        <p:spPr>
          <a:xfrm>
            <a:off x="5364000" y="2997360"/>
            <a:ext cx="26384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даптационные возможности (по Сысенко)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234900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сокоадаптированные личности (ВЛ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неадаптированные личности (СЛ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зкоадаптированные личности (НЛ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задаптированные личности (ДЛ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к как брачная пара — это диада, то всевозможные случаи можно объединить в следующие комбинации типов по уровню адапт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040" y="2924280"/>
            <a:ext cx="675324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ВЛ+ВЛ   4. ВЛ+ДЛ   7. СЛ+Д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ВЛ+СЛ   5. СЛ+СЛ   8. НЛ+Н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ВЛ+НЛ   6. СЛ+НЛ   9. НЛ+Д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ачно-семейная адаптация включает в себя несколько общих социально-психологических адаптационных способносте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    к общен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    к эмоциональному, рациональному и интуитивному пониманию психического мира других людей (эмпатийные способност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    к заботе о других людя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     к самоконтролю, самодисциплине, самонаблюдению и самопознан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)     к сотрудничеству, куда можно включить способность к компромиссам, уступкам, учету интересов других люд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даптация личности в сфере брачно-семейных отношений происходит следующим образом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9640" y="2349360"/>
            <a:ext cx="82296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даптация физиологическая, в том числе и сексуальна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даптация к темпераменту, характеру партнер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даптация к семейным ролям, к новым обязанностям, правам, к разделению труда в брачном союз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даптация к потребностям, интересам, привычкам, образу и стилю жизни брачного партнер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даптация к основным ценностям жизни, «жизненной философии», пониманию цели и смысла жизни партн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пасибо за внимание!!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3T17:02:56Z</dcterms:created>
  <dc:creator>(User)</dc:creator>
  <dc:description/>
  <dc:language>en-US</dc:language>
  <cp:lastModifiedBy>xoma4ok</cp:lastModifiedBy>
  <dcterms:modified xsi:type="dcterms:W3CDTF">2012-10-26T14:19:16Z</dcterms:modified>
  <cp:revision>3</cp:revision>
  <dc:subject/>
  <dc:title>Брачно-семейная адаптация</dc:title>
</cp:coreProperties>
</file>