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3157-FDA5-48B7-927B-AC050445AE37}"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йный аппарат детско-родительских отношений достаточно широк и многозначен: родительские установки и соответствующие им типы поведения; родительские позиции; типы родительского отношения; типы отношений «мать–ребенок»; типы позитивного и ложного родительского авторитета; типы (стили) воспитания детей; черты патогенных типов воспитания; параметры воспитательного процесса; семейные роли ребенка; стили общения, предлагаемые взрослыми в семье и шко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родительское отношение имеет наиболее общий характер и указывает на взаимную связь и взаимозависимость родителя и ребенка. Родительское отношение включает в себя субъективно-оценочное, сознательно-избирательное представление о ребенке, которое определяет особенности родительского восприятия, способ общения с ребенком, характер приемов воздействия на него. Как правило, в структуре родительского отношения выделяют эмоциональный, когнитивный и поведенческий компоненты. Понятия родительская позиция и родительская установка используются как синонимы родительского отношения, но отличаются степенью осознанности. Родительская позиция скорее связывается с сознательно принятыми, выработанными взглядами, намерениями; установка – менее однозначна</a:t>
            </a:r>
            <a:endParaRPr b="0" lang="en-US" sz="1200" spc="-1" strike="noStrike">
              <a:solidFill>
                <a:srgbClr val="000000"/>
              </a:solidFill>
              <a:latin typeface="Calibri"/>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D135-8C07-439C-AF37-52C3377BF60C}"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Учитывая взаимозависимость отношений в семье, их описывают через те роли, которые выполняет ребенок. По мнению А. С. Спиваковской, роль ребенка можно четко выделить в дисгармоничной семье, где относятся друг к другу шаблонно, стереотипно, годами сохраняя застывшие, ригидные, уже не соответствующие реалиям отношения. Роль – это набор шаблонов поведения по отношению к ребенку в семье, сочетание чувств, ожиданий, действий, оценок, адресованных ребенку взрослыми.</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иболее типичны четыре роли: «козел отпущения», «любимчик», «примиритель», «беби». «Козел отпущения» – это объект для проявления взаимного недовольства супругов-родителей. «Любимчик» заполняет эмоциональный вакуум в супружеских отношениях, забота и любовь к нему чрезмерно преувеличены. Напротив, при сильной близости супругов друг к другу ребенок раз и навсегда остается в семье только ребенком, «беби» с очень ограниченными правами. «Примиритель» вынужден играть роль взрослого, регулировать и устранять супружеские конфликты, и таким образом занимает важнейшее место в структуре семьи.</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ыделяются и другие роли: «ребенок-обуза»; «ребенок-раб», «ребенок-любовник» (одинокая, как правило, мать настаивает на «отношениях для двоих», закрепощает ребенка в узах своей любви); «ребенок как оружие» в борьбе с супругом; ребенок – «заместитель мужа» (от него требуют постоянного внимания, заботы, чтобы он был рядом и делился своей личной жизнью) (В.Н.Дружинин).</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ыделяют также три спектра отношений, составляющих любовь родителей к своему ребенку: симпатия–антипатия, уважение–пренебрежение, близость–дальность (А. С. Спиваковская). Сочетание этих аспектов отношений позволяет описать некоторые типы родительской любви.</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ейственная любовь (симпатия, уважение, близость). Формула родительского семейного воспитания такова: «Хочу, чтобы мой ребенок был счастлив, и буду помогать ему в этом».</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Отстраненная любовь (симпатия, уважение, но большая дистанция с ребенком). «Смотрите, какой у меня прекрасный ребенок, жаль, что у меня не так много времени для общения с ним».</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ейственная жалость (симпатия, близость, но отсутствие уважения). «Мой ребенок не такой, как все. Хотя мой ребенок недостаточно умен и физически развит, но все равно это мой ребенок и я его люблю».</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юбовь по типу снисходительного отстранения (симпатия, неуважение, большая межличностная дистанция). «Нельзя винить моего ребенка в том, что он недостаточно умен и физически развит».</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Отвержение (антипатия, неуважение, большая межличностная дистанция). «Этот ребенок вызывает у меня неприятные чувства и нежелание иметь с ним дело».</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Презрение (антипатия, неуважение, малая межличностная дистанция). «Я мучаюсь, беспредельно страдаю оттого, что мой ребенок так неразвит, неумен, упрям, труслив, неприятен другим людям».</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Преследование (антипатия, неуважение, близость). «Мой ребенок негодяй, и я докажу ему это!»</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Отказ (антипатия, большая межличностная дистанция). «Я не хочу иметь дела с этим негодяем».</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Оптимальная родительская позиция должна отвечать трем главным требованиям: адекватности, гибкости и прогностичности.</a:t>
            </a:r>
            <a:endParaRPr b="0" lang="en-US" sz="7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2683-6512-40F4-B25F-0636B2166E2A}"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Тип детско-родительских отношений в семье является одним из основных факторов, формирующих характер ребенка и особенности его поведения. Наиболее характерно и наглядно тип детско-родительских отношений проявляется при воспитании ребенка.</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ru-RU" sz="700" spc="-1" strike="noStrike">
                <a:solidFill>
                  <a:srgbClr val="000000"/>
                </a:solidFill>
                <a:latin typeface="Calibri"/>
              </a:rPr>
              <a:t>Могут быть выделены четыре наиболее общие тактики воспитания в семье и отвечающие им четыре типа семейных взаимоотношений, являющиеся и предпосылкой и результатом их возникновения: авторитетный, авторитарный, либеральный, индифферентный. </a:t>
            </a:r>
            <a:r>
              <a:rPr b="0" i="1" lang="ru-RU" sz="700" spc="-1" strike="noStrike">
                <a:solidFill>
                  <a:srgbClr val="000000"/>
                </a:solidFill>
                <a:latin typeface="Calibri"/>
              </a:rPr>
              <a:t>Авторитетный стиль характеризуется теплым эмоцио</a:t>
            </a:r>
            <a:r>
              <a:rPr b="0" lang="ru-RU" sz="700" spc="-1" strike="noStrike">
                <a:solidFill>
                  <a:srgbClr val="000000"/>
                </a:solidFill>
                <a:latin typeface="Calibri"/>
              </a:rPr>
              <a:t>нальным принятием ребенка и высоким уровнем контроля с признанием и поощрением развития его автономии. Авторитетные родители реализуют демократический стиль общения, готовы к изменению системы требований и правил с учетом растущей компетентности детей. </a:t>
            </a:r>
            <a:r>
              <a:rPr b="0" i="1" lang="ru-RU" sz="700" spc="-1" strike="noStrike">
                <a:solidFill>
                  <a:srgbClr val="000000"/>
                </a:solidFill>
                <a:latin typeface="Calibri"/>
              </a:rPr>
              <a:t>Авторитарный стиль </a:t>
            </a:r>
            <a:r>
              <a:rPr b="0" lang="ru-RU" sz="700" spc="-1" strike="noStrike">
                <a:solidFill>
                  <a:srgbClr val="000000"/>
                </a:solidFill>
                <a:latin typeface="Calibri"/>
              </a:rPr>
              <a:t>отличается отвержением или низким уровнем эмоционального принятия ребенка и высоким — контроля. Стиль общения авторитарных родителей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мандно-директивный, по типу диктата, система требований, запретов и правил ригидна и неизменна. Особенностями </a:t>
            </a:r>
            <a:r>
              <a:rPr b="0" i="1" lang="ru-RU" sz="700" spc="-1" strike="noStrike">
                <a:solidFill>
                  <a:srgbClr val="000000"/>
                </a:solidFill>
                <a:latin typeface="Calibri"/>
              </a:rPr>
              <a:t>либерального стиля воспита</a:t>
            </a:r>
            <a:r>
              <a:rPr b="0" lang="ru-RU" sz="700" spc="-1" strike="noStrike">
                <a:solidFill>
                  <a:srgbClr val="000000"/>
                </a:solidFill>
                <a:latin typeface="Calibri"/>
              </a:rPr>
              <a:t>ния являются теплое эмоциональное принятие и низкий уровень контроля в форме вседозволенности и всепрощенчества. Требования и правила при</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таком стиле воспитания практически отсутствуют, уровень руководства недостаточен. </a:t>
            </a:r>
            <a:r>
              <a:rPr b="0" i="1" lang="ru-RU" sz="700" spc="-1" strike="noStrike">
                <a:solidFill>
                  <a:srgbClr val="000000"/>
                </a:solidFill>
                <a:latin typeface="Calibri"/>
              </a:rPr>
              <a:t>Индифферентный стиль определяется низкой вовлеченнос</a:t>
            </a:r>
            <a:r>
              <a:rPr b="0" lang="ru-RU" sz="700" spc="-1" strike="noStrike">
                <a:solidFill>
                  <a:srgbClr val="000000"/>
                </a:solidFill>
                <a:latin typeface="Calibri"/>
              </a:rPr>
              <a:t>тью родителей в процесс воспитания, эмоциональной холодностью и дистантностью в отношении ребенка, низким уровнем контроля в форме игнорирования интересов и потребностей ребенка, недостатком протекции.</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оказало, что сам по себе стиль родительского поведения еще не предопределяет однозначно формирования тех или иных личностных особенностей. Важную роль играют переживания самого ребенка, особенности его темперамента, соответствие типа семейного воспитания индивидуальным качествам ребенка. Чем он старше, тем в большей степени влияние типа семейного воспитания определяется его собственной активностью и личностной позицией.</a:t>
            </a:r>
            <a:endParaRPr b="0" lang="en-US" sz="7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FD63-EFF8-4A21-9297-42E57FD0906B}"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Единственные дети с самого рождения развиваются в особенной атмосфере. Окруженные долгое время лишь взрослыми, они получают более ограниченный личностный опыт по сравнению с детьми, имеющими братьев и сестер. Психологи начала прошлого века очень скептически относились к такой семейной структуре. Слова американского психолога С. Холла о том, что быть единственным ребенком - это уже иметь болезнь в себе, постоянно цитировались в специальной и популярной литературе. Однако такая однозначная оценка недостаточно обоснованна и в последнее время встречает все больше возражений.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Главное в развитии единственного ребенка заключается в том, что он длительное время близко общается лишь со взрослыми. </a:t>
            </a:r>
            <a:r>
              <a:rPr b="0" lang="ru-RU" sz="1000" spc="-1" strike="noStrike">
                <a:solidFill>
                  <a:srgbClr val="000000"/>
                </a:solidFill>
                <a:latin typeface="Calibri"/>
              </a:rPr>
              <a:t>Быть одному - маленькому в "стране великанов" - не так легко и просто. Не имея возможности сравнивать себя в семейной обстановке с братьями и сестрами подобного возраста, а видя перед собой лишь недосягаемых, все умеющих и могущих взрослых, ребенок остро ощущает свою слабость, несовершенство. Так, опосредованно, самой ситуацией развития ребенок обескураживается и в итоге может потерять веру в свои силы.</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Единственный ребенок всегда на глазах у родителей</a:t>
            </a:r>
            <a:r>
              <a:rPr b="0" lang="ru-RU" sz="1000" spc="-1" strike="noStrike">
                <a:solidFill>
                  <a:srgbClr val="000000"/>
                </a:solidFill>
                <a:latin typeface="Calibri"/>
              </a:rPr>
              <a:t>. Они бдительны, замечают, когда ему что-либо не удается, когда ему трудно, и спешат с помощью. Если в большой семье малыш никак не может застегнуть пуговицу и только после десятой неудачной попытки, разразившись плачем, получает помощь, то единственный ребенок часто делает лишь первую попытку, и то вполсилы. Единственным детям, как правило, слишком много помогают, и со временем малыш начинает осмыслять себя постоянно нуждающимся в помощи. Такую внутреннюю позицию иллюстрирует рисунок семьи шестилетнего Ярика (рис. 1). В окружении мамы и папы он изобразил себя ничтожно маленьким, беспомощным, требующим заботы.</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Развиваясь в атмосфере чрезмерной опеки, единственные дети не только теряют уверенность, но и привыкают воспринимать служение, помощь родителей как само собой разумеющееся, требуют ее, когда надо и не надо. </a:t>
            </a:r>
            <a:r>
              <a:rPr b="1" lang="ru-RU" sz="1000" spc="-1" strike="noStrike">
                <a:solidFill>
                  <a:srgbClr val="000000"/>
                </a:solidFill>
                <a:latin typeface="Calibri"/>
              </a:rPr>
              <a:t>Ребенок начинает чувствовать силу в своей слабости, злоупотребляет вниманием и заботой окружающих.</a:t>
            </a:r>
            <a:r>
              <a:rPr b="0" lang="ru-RU" sz="1000" spc="-1" strike="noStrike">
                <a:solidFill>
                  <a:srgbClr val="000000"/>
                </a:solidFill>
                <a:latin typeface="Calibri"/>
              </a:rPr>
              <a:t> Так родители зачастую просто попадают в сети маленького деспота: ему во всем необходима помощь, ему ни в чем нельзя отказать. Иначе - истерика, слезы, злоба или очередная демонстрация слабости. Ребенок иногда использует и менее привычные способы манипулирования поведением родителей. Например, демонстрирует ночные страхи, соматические расстройства (головные боли, боли в животе и т. п.), для того чтобы удерживать родителей в постоянной заботе о нем, чтобы настоять на том, чтобы было так, как он (она) хочет. Дети становятся маленькими тиранами, причем родители, хотя и чувствуют себя из-за этого изможденными, не понимают, что творится: думают, что ребенок просто чрезмерно чуток или болен.</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Развиваясь в атмосфере чрезмерной опеки, единственные дети не только теряют уверенность, но и привыкают воспринимать служение, помощь родителей как само собой разумеющееся, требуют ее, когда надо и не надо. </a:t>
            </a:r>
            <a:r>
              <a:rPr b="1" lang="ru-RU" sz="1000" spc="-1" strike="noStrike">
                <a:solidFill>
                  <a:srgbClr val="000000"/>
                </a:solidFill>
                <a:latin typeface="Calibri"/>
              </a:rPr>
              <a:t>Ребенок начинает чувствовать силу в своей слабости, злоупотребляет вниманием и заботой окружающих.</a:t>
            </a:r>
            <a:r>
              <a:rPr b="0" lang="ru-RU" sz="1000" spc="-1" strike="noStrike">
                <a:solidFill>
                  <a:srgbClr val="000000"/>
                </a:solidFill>
                <a:latin typeface="Calibri"/>
              </a:rPr>
              <a:t> Так родители зачастую просто попадают в сети маленького деспота: ему во всем необходима помощь, ему ни в чем нельзя отказать. Иначе - истерика, слезы, злоба или очередная демонстрация слабости. Ребенок иногда использует и менее привычные способы манипулирования поведением родителей. Например, демонстрирует ночные страхи, соматические расстройства (головные боли, боли в животе и т. п.), для того чтобы удерживать родителей в постоянной заботе о нем, чтобы настоять на том, чтобы было так, как он (она) хочет. Дети становятся маленькими тиранами, причем родители, хотя и чувствуют себя из-за этого изможденными, не понимают, что творится: думают, что ребенок просто чрезмерно чуток или болен.</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Другая характерная особенность развития единственных детей - </a:t>
            </a:r>
            <a:r>
              <a:rPr b="1" lang="ru-RU" sz="1000" spc="-1" strike="noStrike">
                <a:solidFill>
                  <a:srgbClr val="000000"/>
                </a:solidFill>
                <a:latin typeface="Calibri"/>
              </a:rPr>
              <a:t>они не имеют возможности близко общаться с другими детьми своего возраста </a:t>
            </a:r>
            <a:r>
              <a:rPr b="0" lang="ru-RU" sz="1000" spc="-1" strike="noStrike">
                <a:solidFill>
                  <a:srgbClr val="000000"/>
                </a:solidFill>
                <a:latin typeface="Calibri"/>
              </a:rPr>
              <a:t>(братьями, сестрами), что чаще всего приводит к неверной самооценке. Единственные дети склонны считать себя уникальными, ценными, ставить себя выше других. В школе, где они попадают в ситуацию сравнения с другими детьми, которая часто раскрывает их завышенное самомнение, они изо всех сил борются за то, чтобы поддержать фиктивный образ себя. Чтобы достичь этого, они часто шалят и проказничаю. Отсутствие возможности близко общаться с братьями и сестрами приводит и к тому, что единственным детям труднее общаться со сверстниками. Во-первых, они не имеют опыта, как приспосабливаться к нуждам других детей, не учитывают их интересов. Единственный ребенок от остальных часто отличается и лексиконом. В его речи много терминов, не понятных ему самому и окружающим детям, взрослых выражений, ему нелегко понимать детские шутки.</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е это приводит к тому, что единственные дети менее популярны в среде сверстников, что, в свою очередь, влияет на развитие личности ребенка. Испытывая недостаток близкого общения с другими детьми, единственные дети уже в дошкольном возрасте начинают активно искать такие контакты. Они просят родителей, чтобы им "купили" братика или сестричку, в других случаях страстно хотят иметь собаку или кошку. Потребность иметь постоянного спутника в играх, друга в семье, с которым можно было бы общаться на равных, отражается и в их рисунках семьи. Как Рамуне, девочка пяти с половиной лет, они очень часто включают в состав семьи двоюродных сестер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многие семьи ограничиваются одним ребенком. Некоторые родители делая выбор в пользу одного ребенка выходят из соображения о недостаточном материальном состоянии, другие, более обеспеченные – жалуются на недостаток времени.</a:t>
            </a:r>
            <a:endParaRPr b="0" lang="en-US" sz="1000" spc="-1" strike="noStrike">
              <a:solidFill>
                <a:srgbClr val="000000"/>
              </a:solidFill>
              <a:latin typeface="Calibri"/>
            </a:endParaRPr>
          </a:p>
        </p:txBody>
      </p:sp>
      <p:sp>
        <p:nvSpPr>
          <p:cNvPr id="1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CD93-1250-4165-BFA5-EDC800065E77}"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и воспитания единственного ребенка в семье. На этот счет существует две наиболее распространенные точки зрения. Первая: единственный ребенок оказывается более эмоционально устойчив, нежели другие дети, потому, что не знает волнений, связанных с соперничеством братьев. Вторая: единственному ребенку приходится преодолевать больше трудностей, чем обычно, дабы приобрести психическое равновесие, потому что ему не достает брата или сестры. Что бы там ни говорили психологи, жизнь одного - единственного ребенка в семье нередко складывается так, что подтверждает именно эту, вторую, точку зрения. Трудности, однако, не являются абсолютно неизбежными, и тем не менее встречаются настолько часто, что было бы глупо их не зам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сспорно, родители, имеющие единственного ребенка, обычно уделяют ему чрезмерное внимание. Они слишком заботятся о нем только потому, что он у них один, тогда как на самом деле он всего лишь первый.</a:t>
            </a:r>
            <a:endParaRPr b="0" lang="en-US"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D4EA-27C0-4527-ABDE-9214F119158C}"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жно утверждать, что воспитание единственного сына или единственной дочери гораздо более трудное дело, чем воспитание нескольких детей. Даже в том случае, если семья испытывает некоторые материальные затруднения, нельзя ограничиваться одним ребенком. Единственный ребенок очень скоро становится центром семьи. Заботы отца и матери, сосредоточенные на этом ребенке, обыкновенно превышают полезную норму. Любовь родительская в таком случае отличается известной нервозностью. Болезнь этого ребенка или смерть переносится такой семьей очень тяжело, и страх такого несчастья всегда стоит перед родителями и лишает их необходимого спокойствия. Очень часто единственный ребенок привыкает к своему исключительному положению и становится настоящим деспотом в семье. Для родителей очень трудно бывает затормозить свою любовь к нему и свои заботы, и волей - неволей они воспитывают эгоиста. Бесспорно, родители, имеющие единственного ребенка, обычно уделяют ему чрезмерное внимание.</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развития психики каждый ребенок требует душевного пространства, в котором он мог бы свободно передвигаться. Ему нужна внутренняя и внешняя свобода, свободный диалог с окружающим миром, чтобы его не поддерживала постоянно рука родителей. Ребенку не обойтись без испачканного лица, разорванных штанов и драк.</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Единственному ребенку часто отказано в таком пространстве. Осознано или нет, ему навязывают роль образцового ребенка. Он должен особенно вежливо здороваться, особенно выразительно читать стихи, он должен быть образцовым чистюлей и выделяться среди других детей. Относительно него строятся честолюбивые планы на будущее. За каждым проявлением жизни ведется внимательное, с затаенной озабоченностью, наблюдение. Недостатка в хороших советах ребенок не испытывает на протяжении всего детства. Такое отношение к нему несет опасность, что единственный ребенок превратится в избалованного, несамостоятельного, неуверенного в себе, переоценивающего себя, разбросанного ребенк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единственному ребенку нужно предоставлять те способы взаимоотношений с людьми и с жизнью, которые естественным путем формируются в больших семьях. И хорошо бы еще взрослым знать об основных возрастных периодах детского развития, чтобы не вынуждать ребенка перескакивать через ступеньки этого естественного, природой</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ольшинство единственных детей четко себя осознают (это относится и к первым детям, которые некоторое время тоже были единственными). Их с</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уясь повышенным вниманием и поддержкой родителей, они могут быстро проникнуться преувеличенным чувством собственной значимости, их самооценка, как правило, завышена. В отношениях с людьми единственные дети часто считаются со своим мнением в гораздо большей степени, чем с чужим. В таком случае их приходится учить уважать обоснованные нужды других.</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амовыражение и саморазвитие поощряются, их интересы и возможности принимаются близко к сердцу. Их усилия поощряются, успехи вознаграждаются</a:t>
            </a:r>
            <a:endParaRPr b="0" lang="en-US" sz="11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D2F2-5022-4588-9374-E6F58DB3D179}"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днако в ситуации развития единственных детей есть свои положительные стороны. Во-первых, они получают больше внимания и любви родителей. Только в тех случаях, когда родители "перегибают", не оставляют места для инициативы ребенка, не дают возможности ему самому испробовать свои силы, преодолевать препятствия, вреда бывает больше, чем пользы. К сожалению, тенденция именно такова: ведь у родителей он единственный. Однако есть родители, которые пересиливают эту свою "слабинку" и создают ребенку нормальную обстановку для развития.</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о-вторых, родители единственного ребенка имеют больше возможностей развить его способности, быть более внимательными к его внутреннему миру, его переживаниям. Будучи ближе к ребенку, родители больше влияют на развитие его личности, чем в других семьях. Таким образом, можно заключить, что как плохие, так и хорошие аспекты родительского отношения в семьях с одним ребенком оставляют более яркий след в его личности. В социальном плане единственные дети также имеют определенные преимущества над другими. На их обучение тратится больше времени, привлекаются различные репетиторы, дети устраиваются в разнообразные кружки и т. п. Позже, в юности, единственные дети лучше обеспечиваются материально, что важно для начала самостоятельной жизн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бобщая вышесказанное, можно утверждать, что воспитание единственного сына или единственной дочери гораздо более трудное дело, чем воспитание нескольких детей. Единственный ребенок очень скоро становится центром семьи. Заботы отца и матери, сосредоточенные на этом ребенке, обыкновенно превышают полезную норму.</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Решение родителей ограничиться одним ребенком сказывается на его воспитании, развитии характера и формировании лич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4F09-A8A8-4103-BBF5-4FF63445D6C7}"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6C82A-75B0-4E7B-A027-D5A825E7F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23B35-B6E9-4B4D-8344-133FF918C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27EEA-45C8-4DFB-B9EB-AA19FEDAB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4C29F-F136-4AB6-AF11-BB50802C5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B27F5-099D-4213-85EC-9D5944FCC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792A2-1BA9-469E-ABFE-0EE712F28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73B78-6897-443B-9F88-C5B7C3085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4D611-800B-41B4-B60B-523B0C397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52AED-000E-4B5B-A66B-C97CA0EAD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67CE1-2276-4817-AC05-026243CCF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B762A-6E9E-4AF1-A1B1-92C1EE62C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8E568-1BB3-457F-9D2C-E5DC1559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1FF50-0DD7-42EC-BFC4-ADBA4143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DB0A3-78EB-4AD1-AC7D-5955AC0BE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600E3-F940-4998-8BC8-E24A5C688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0AB93-1390-4F2F-8A1F-52C121601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C8112-6078-4E74-8D5D-A32E4DAEA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D4D13-99D9-41B6-BB14-50EE68331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85E1-5480-49FD-B03B-15FB7D74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AE06D-F721-4EA9-9F31-62F0F4F08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DFC4F-1A37-4218-8919-2EB4401CF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0754-698A-4890-AE76-FE10213E4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097D-B8E2-479A-AE98-6415A3EF9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0C3FB-24AB-4DA9-989E-325ED2C18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3BDE-8D4A-4F93-83B2-27FF4F048A5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DAFE-8C4F-47BB-8F27-14F2203A0F4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298440" y="1420920"/>
            <a:ext cx="8626320" cy="2065320"/>
          </a:xfrm>
          <a:prstGeom prst="rect">
            <a:avLst/>
          </a:prstGeom>
          <a:ln w="0">
            <a:noFill/>
          </a:ln>
        </p:spPr>
      </p:pic>
      <p:sp>
        <p:nvSpPr>
          <p:cNvPr id="103" name="TextBox 3"/>
          <p:cNvSpPr/>
          <p:nvPr/>
        </p:nvSpPr>
        <p:spPr>
          <a:xfrm>
            <a:off x="5181480" y="5334120"/>
            <a:ext cx="3810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Выполнила:  </a:t>
            </a:r>
            <a:br>
              <a:rPr sz="1800"/>
            </a:br>
            <a:r>
              <a:rPr b="0" lang="ru-RU" sz="1800" spc="-1" strike="noStrike">
                <a:solidFill>
                  <a:srgbClr val="000000"/>
                </a:solidFill>
                <a:latin typeface="Constantia"/>
              </a:rPr>
              <a:t>Полимова Анастасия Михайловна, аспирант 3 года обучения ФФМ МГУ имени М.В.Ломоносова</a:t>
            </a:r>
            <a:endParaRPr b="0" lang="en-US" sz="1800" spc="-1" strike="noStrike">
              <a:solidFill>
                <a:srgbClr val="000000"/>
              </a:solidFill>
              <a:latin typeface="Constantia"/>
            </a:endParaRPr>
          </a:p>
        </p:txBody>
      </p:sp>
      <p:sp>
        <p:nvSpPr>
          <p:cNvPr id="104" name="TextBox 4"/>
          <p:cNvSpPr/>
          <p:nvPr/>
        </p:nvSpPr>
        <p:spPr>
          <a:xfrm>
            <a:off x="2743200" y="3657600"/>
            <a:ext cx="3886200" cy="96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nstantia"/>
              </a:rPr>
              <a:t>Реферат по курсу: </a:t>
            </a:r>
            <a:br>
              <a:rPr sz="1900"/>
            </a:br>
            <a:r>
              <a:rPr b="0" lang="ru-RU" sz="1900" spc="-1" strike="noStrike">
                <a:solidFill>
                  <a:srgbClr val="000000"/>
                </a:solidFill>
                <a:latin typeface="Constantia"/>
              </a:rPr>
              <a:t>Педагогика и психология семьи</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6094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Детско-родительские отношения</a:t>
            </a:r>
            <a:endParaRPr b="0" lang="en-US" sz="4000" spc="-1" strike="noStrike">
              <a:solidFill>
                <a:srgbClr val="04617b"/>
              </a:solidFill>
              <a:latin typeface="Calibri"/>
            </a:endParaRPr>
          </a:p>
        </p:txBody>
      </p:sp>
      <p:sp>
        <p:nvSpPr>
          <p:cNvPr id="106" name="TextBox 3"/>
          <p:cNvSpPr/>
          <p:nvPr/>
        </p:nvSpPr>
        <p:spPr>
          <a:xfrm>
            <a:off x="380880" y="1600200"/>
            <a:ext cx="8458200" cy="205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Constantia"/>
              </a:rPr>
              <a:t>Понятийный аппарат </a:t>
            </a:r>
            <a:r>
              <a:rPr b="0" lang="ru-RU" sz="1800" spc="-1" strike="noStrike">
                <a:solidFill>
                  <a:srgbClr val="000000"/>
                </a:solidFill>
                <a:latin typeface="Constantia"/>
              </a:rPr>
              <a:t>: родительские установки и соответствующие им типы поведения; родительские позиции и типы родительских отношений; типы отношений «мать-ребенок»; стили воспитания детей; черты патогенных  типов воспитания, параметры воспитательного процесса; семейные роли ребенка; стили общения, предлагаемые взрослыми в семье и школе.</a:t>
            </a:r>
            <a:endParaRPr b="0" lang="en-US" sz="1800" spc="-1" strike="noStrike">
              <a:solidFill>
                <a:srgbClr val="000000"/>
              </a:solidFill>
              <a:latin typeface="Constantia"/>
            </a:endParaRPr>
          </a:p>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7" name="TextBox 4"/>
          <p:cNvSpPr/>
          <p:nvPr/>
        </p:nvSpPr>
        <p:spPr>
          <a:xfrm>
            <a:off x="380880" y="3809880"/>
            <a:ext cx="65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Компоненты структуры родительского отношения:</a:t>
            </a:r>
            <a:endParaRPr b="0" lang="en-US" sz="1800" spc="-1" strike="noStrike">
              <a:solidFill>
                <a:srgbClr val="000000"/>
              </a:solidFill>
              <a:latin typeface="Constantia"/>
            </a:endParaRPr>
          </a:p>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Эмоциональный;</a:t>
            </a:r>
            <a:endParaRPr b="0" lang="en-US" sz="1800" spc="-1" strike="noStrike">
              <a:solidFill>
                <a:srgbClr val="000000"/>
              </a:solidFill>
              <a:latin typeface="Constantia"/>
            </a:endParaRPr>
          </a:p>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огнитивный;</a:t>
            </a:r>
            <a:endParaRPr b="0" lang="en-US" sz="1800" spc="-1" strike="noStrike">
              <a:solidFill>
                <a:srgbClr val="000000"/>
              </a:solidFill>
              <a:latin typeface="Constantia"/>
            </a:endParaRPr>
          </a:p>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веденческий</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Взаимоотношения в семье – как роли, которые выполняет ребенок</a:t>
            </a:r>
            <a:endParaRPr b="0" lang="en-US" sz="4000" spc="-1" strike="noStrike">
              <a:solidFill>
                <a:srgbClr val="04617b"/>
              </a:solidFill>
              <a:latin typeface="Calibri"/>
            </a:endParaRPr>
          </a:p>
        </p:txBody>
      </p:sp>
      <p:sp>
        <p:nvSpPr>
          <p:cNvPr id="109" name="Прямоугольник 3"/>
          <p:cNvSpPr/>
          <p:nvPr/>
        </p:nvSpPr>
        <p:spPr>
          <a:xfrm>
            <a:off x="228600" y="1219320"/>
            <a:ext cx="8686800" cy="59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ыделяют также три спектра отношений, составляющих любовь родителей к своему ребенку: симпатия–антипатия, уважение–пренебрежение, близость–дальность (А. С. Спиваковская).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типы родительской любви</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Действенная любовь </a:t>
            </a:r>
            <a:r>
              <a:rPr b="0" lang="ru-RU" sz="1800" spc="-1" strike="noStrike">
                <a:solidFill>
                  <a:srgbClr val="000000"/>
                </a:solidFill>
                <a:latin typeface="Constantia"/>
              </a:rPr>
              <a:t>(симпатия, уважение, близость).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Отстраненная любовь </a:t>
            </a:r>
            <a:r>
              <a:rPr b="0" lang="ru-RU" sz="1800" spc="-1" strike="noStrike">
                <a:solidFill>
                  <a:srgbClr val="000000"/>
                </a:solidFill>
                <a:latin typeface="Constantia"/>
              </a:rPr>
              <a:t>(симпатия, уважение, но большая дистанция с ребенком).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Действенная жалость </a:t>
            </a:r>
            <a:r>
              <a:rPr b="0" lang="ru-RU" sz="1800" spc="-1" strike="noStrike">
                <a:solidFill>
                  <a:srgbClr val="000000"/>
                </a:solidFill>
                <a:latin typeface="Constantia"/>
              </a:rPr>
              <a:t>(симпатия, близость, но отсутствие уважения).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юбовь по типу </a:t>
            </a:r>
            <a:r>
              <a:rPr b="0" i="1" lang="ru-RU" sz="1800" spc="-1" strike="noStrike">
                <a:solidFill>
                  <a:srgbClr val="000000"/>
                </a:solidFill>
                <a:latin typeface="Constantia"/>
              </a:rPr>
              <a:t>снисходительного отстранения </a:t>
            </a:r>
            <a:r>
              <a:rPr b="0" lang="ru-RU" sz="1800" spc="-1" strike="noStrike">
                <a:solidFill>
                  <a:srgbClr val="000000"/>
                </a:solidFill>
                <a:latin typeface="Constantia"/>
              </a:rPr>
              <a:t>(симпатия, неуважение, большая межличностная дистанция).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Отвержение</a:t>
            </a:r>
            <a:r>
              <a:rPr b="0" lang="ru-RU" sz="1800" spc="-1" strike="noStrike">
                <a:solidFill>
                  <a:srgbClr val="000000"/>
                </a:solidFill>
                <a:latin typeface="Constantia"/>
              </a:rPr>
              <a:t> (антипатия, неуважение, большая межличностная дистанция).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Презрение </a:t>
            </a:r>
            <a:r>
              <a:rPr b="0" lang="ru-RU" sz="1800" spc="-1" strike="noStrike">
                <a:solidFill>
                  <a:srgbClr val="000000"/>
                </a:solidFill>
                <a:latin typeface="Constantia"/>
              </a:rPr>
              <a:t>(антипатия, неуважение, малая межличностная дистанция).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Преследование</a:t>
            </a:r>
            <a:r>
              <a:rPr b="0" lang="ru-RU" sz="1800" spc="-1" strike="noStrike">
                <a:solidFill>
                  <a:srgbClr val="000000"/>
                </a:solidFill>
                <a:latin typeface="Constantia"/>
              </a:rPr>
              <a:t> (антипатия, неуважение, близость).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Отказ</a:t>
            </a:r>
            <a:r>
              <a:rPr b="0" lang="ru-RU" sz="1800" spc="-1" strike="noStrike">
                <a:solidFill>
                  <a:srgbClr val="000000"/>
                </a:solidFill>
                <a:latin typeface="Constantia"/>
              </a:rPr>
              <a:t> (антипатия, большая межличностная дистанция).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тимальная родительская позиция должна отвечать трем главным требованиям: </a:t>
            </a:r>
            <a:r>
              <a:rPr b="1" lang="ru-RU" sz="2000" spc="-1" strike="noStrike">
                <a:solidFill>
                  <a:srgbClr val="ff0000"/>
                </a:solidFill>
                <a:latin typeface="Constantia"/>
              </a:rPr>
              <a:t>адекватности, гибкости и прогностичности</a:t>
            </a:r>
            <a:r>
              <a:rPr b="0" lang="ru-RU" sz="2000" spc="-1" strike="noStrike">
                <a:solidFill>
                  <a:srgbClr val="000000"/>
                </a:solidFill>
                <a:latin typeface="Constantia"/>
              </a:rPr>
              <a: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Заголовок 1"/>
          <p:cNvSpPr/>
          <p:nvPr/>
        </p:nvSpPr>
        <p:spPr>
          <a:xfrm>
            <a:off x="0" y="0"/>
            <a:ext cx="9144000" cy="6858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04617b"/>
                </a:solidFill>
                <a:latin typeface="Calibri"/>
              </a:rPr>
              <a:t>Типы семейного воспитания</a:t>
            </a:r>
            <a:endParaRPr b="0" lang="en-US" sz="3900" spc="-1" strike="noStrike">
              <a:solidFill>
                <a:srgbClr val="000000"/>
              </a:solidFill>
              <a:latin typeface="Constantia"/>
            </a:endParaRPr>
          </a:p>
        </p:txBody>
      </p:sp>
      <p:sp>
        <p:nvSpPr>
          <p:cNvPr id="111" name="TextBox 4"/>
          <p:cNvSpPr/>
          <p:nvPr/>
        </p:nvSpPr>
        <p:spPr>
          <a:xfrm>
            <a:off x="457200" y="914400"/>
            <a:ext cx="8229600" cy="59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ритерии: характер эмоционального отношения к ребенку и тип родительского контроля . Более точно охарактеризовать родительское отношение и соответствующее поведение позволяет учет сочетания крайних вариантов проявления этих факторов (критериев). Выделяются четыре типа воспитания (Г.Крайг, 2000).</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1. Авторитетный  </a:t>
            </a:r>
            <a:r>
              <a:rPr b="0" lang="ru-RU" sz="1800" spc="-1" strike="noStrike">
                <a:solidFill>
                  <a:srgbClr val="000000"/>
                </a:solidFill>
                <a:latin typeface="Constantia"/>
              </a:rPr>
              <a:t>- характеризуется теплым эмоциональным принятием ребенка и высоким уровнем контроля с признанием и</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ощрением развития его автономии.</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2. Авторитарный </a:t>
            </a:r>
            <a:r>
              <a:rPr b="0" lang="ru-RU" sz="1800" spc="-1" strike="noStrike">
                <a:solidFill>
                  <a:srgbClr val="000000"/>
                </a:solidFill>
                <a:latin typeface="Constantia"/>
              </a:rPr>
              <a:t>- отличается отвержением или низким уровнем эмоционального принятия ребенка и высоким — контроля.</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3. Либеральный </a:t>
            </a:r>
            <a:r>
              <a:rPr b="0" lang="ru-RU" sz="1800" spc="-1" strike="noStrike">
                <a:solidFill>
                  <a:srgbClr val="000000"/>
                </a:solidFill>
                <a:latin typeface="Constantia"/>
              </a:rPr>
              <a:t>- теплое эмоциональное принятие и низкий уровень контроля в форме вседозволенности и всепрощенчества.</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4. Индифферентный </a:t>
            </a:r>
            <a:r>
              <a:rPr b="0" lang="ru-RU" sz="1800" spc="-1" strike="noStrike">
                <a:solidFill>
                  <a:srgbClr val="000000"/>
                </a:solidFill>
                <a:latin typeface="Constantia"/>
              </a:rPr>
              <a:t>- определяется низкой вовлеченностью родителей в процесс воспитания, эмоциональной холодностью и дистантностью в отношении ребенка, низким уровнем контроля в форме игнорирования интересов и потребностей ребенка, недостатком протекции</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Заголовок 1"/>
          <p:cNvSpPr/>
          <p:nvPr/>
        </p:nvSpPr>
        <p:spPr>
          <a:xfrm>
            <a:off x="0" y="0"/>
            <a:ext cx="91440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Основные аспекты воспитания единственного ребенка</a:t>
            </a:r>
            <a:endParaRPr b="0" lang="en-US" sz="4000" spc="-1" strike="noStrike">
              <a:solidFill>
                <a:srgbClr val="000000"/>
              </a:solidFill>
              <a:latin typeface="Constantia"/>
            </a:endParaRPr>
          </a:p>
        </p:txBody>
      </p:sp>
      <p:sp>
        <p:nvSpPr>
          <p:cNvPr id="113" name="TextBox 6"/>
          <p:cNvSpPr/>
          <p:nvPr/>
        </p:nvSpPr>
        <p:spPr>
          <a:xfrm>
            <a:off x="4648320" y="1362240"/>
            <a:ext cx="41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Быть единственным ребенком – это уже иметь болезнь  в себе.</a:t>
            </a:r>
            <a:endParaRPr b="0" lang="en-US" sz="1800" spc="-1" strike="noStrike">
              <a:solidFill>
                <a:srgbClr val="000000"/>
              </a:solidFill>
              <a:latin typeface="Constant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амер. психолог Холл)</a:t>
            </a:r>
            <a:endParaRPr b="0" lang="en-US" sz="1800" spc="-1" strike="noStrike">
              <a:solidFill>
                <a:srgbClr val="000000"/>
              </a:solidFill>
              <a:latin typeface="Constantia"/>
            </a:endParaRPr>
          </a:p>
        </p:txBody>
      </p:sp>
      <p:sp>
        <p:nvSpPr>
          <p:cNvPr id="114" name="TextBox 7"/>
          <p:cNvSpPr/>
          <p:nvPr/>
        </p:nvSpPr>
        <p:spPr>
          <a:xfrm>
            <a:off x="457200" y="260352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Основные черты:</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 Главное в развитии единственного ребенка заключается в том, что он длительное время </a:t>
            </a:r>
            <a:r>
              <a:rPr b="0" lang="ru-RU" sz="1800" spc="-1" strike="noStrike">
                <a:solidFill>
                  <a:srgbClr val="ff0000"/>
                </a:solidFill>
                <a:latin typeface="Constantia"/>
              </a:rPr>
              <a:t>близко общается </a:t>
            </a:r>
            <a:r>
              <a:rPr b="0" lang="ru-RU" sz="1800" spc="-1" strike="noStrike">
                <a:solidFill>
                  <a:srgbClr val="000000"/>
                </a:solidFill>
                <a:latin typeface="Constantia"/>
              </a:rPr>
              <a:t>лишь со </a:t>
            </a:r>
            <a:r>
              <a:rPr b="0" lang="ru-RU" sz="1800" spc="-1" strike="noStrike">
                <a:solidFill>
                  <a:srgbClr val="ff0000"/>
                </a:solidFill>
                <a:latin typeface="Constantia"/>
              </a:rPr>
              <a:t>взрослыми</a:t>
            </a:r>
            <a:r>
              <a:rPr b="0" lang="ru-RU" sz="1800" spc="-1" strike="noStrike">
                <a:solidFill>
                  <a:srgbClr val="000000"/>
                </a:solidFill>
                <a:latin typeface="Constantia"/>
              </a:rPr>
              <a: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2. Единственным детям, как правило, слишком много помогают, и со временем малыш начинает осмыслять себя </a:t>
            </a:r>
            <a:r>
              <a:rPr b="0" lang="ru-RU" sz="1800" spc="-1" strike="noStrike">
                <a:solidFill>
                  <a:srgbClr val="ff0000"/>
                </a:solidFill>
                <a:latin typeface="Constantia"/>
              </a:rPr>
              <a:t>постоянно нуждающимся </a:t>
            </a:r>
            <a:r>
              <a:rPr b="0" lang="ru-RU" sz="1800" spc="-1" strike="noStrike">
                <a:solidFill>
                  <a:srgbClr val="000000"/>
                </a:solidFill>
                <a:latin typeface="Constantia"/>
              </a:rPr>
              <a:t>в помощи.</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3. Ребенок начинает чувствовать силу в своей слабости, </a:t>
            </a:r>
            <a:r>
              <a:rPr b="0" lang="ru-RU" sz="1800" spc="-1" strike="noStrike">
                <a:solidFill>
                  <a:srgbClr val="ff0000"/>
                </a:solidFill>
                <a:latin typeface="Constantia"/>
              </a:rPr>
              <a:t>злоупотребляет вниманием и заботой окружающих</a:t>
            </a:r>
            <a:r>
              <a:rPr b="0" lang="ru-RU" sz="1800" spc="-1" strike="noStrike">
                <a:solidFill>
                  <a:srgbClr val="000000"/>
                </a:solidFill>
                <a:latin typeface="Constantia"/>
              </a:rPr>
              <a: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4. Другая характерная особенность развития единственных детей - они </a:t>
            </a:r>
            <a:r>
              <a:rPr b="0" lang="ru-RU" sz="1800" spc="-1" strike="noStrike">
                <a:solidFill>
                  <a:srgbClr val="ff0000"/>
                </a:solidFill>
                <a:latin typeface="Constantia"/>
              </a:rPr>
              <a:t>не имеют возможности</a:t>
            </a:r>
            <a:r>
              <a:rPr b="0" lang="ru-RU" sz="1800" spc="-1" strike="noStrike">
                <a:solidFill>
                  <a:srgbClr val="000000"/>
                </a:solidFill>
                <a:latin typeface="Constantia"/>
              </a:rPr>
              <a:t> близко </a:t>
            </a:r>
            <a:r>
              <a:rPr b="0" lang="ru-RU" sz="1800" spc="-1" strike="noStrike">
                <a:solidFill>
                  <a:srgbClr val="ff0000"/>
                </a:solidFill>
                <a:latin typeface="Constantia"/>
              </a:rPr>
              <a:t>общаться с </a:t>
            </a:r>
            <a:r>
              <a:rPr b="0" lang="ru-RU" sz="1800" spc="-1" strike="noStrike">
                <a:solidFill>
                  <a:srgbClr val="000000"/>
                </a:solidFill>
                <a:latin typeface="Constantia"/>
              </a:rPr>
              <a:t>другими </a:t>
            </a:r>
            <a:r>
              <a:rPr b="0" lang="ru-RU" sz="1800" spc="-1" strike="noStrike">
                <a:solidFill>
                  <a:srgbClr val="ff0000"/>
                </a:solidFill>
                <a:latin typeface="Constantia"/>
              </a:rPr>
              <a:t>детьми своего возраста </a:t>
            </a:r>
            <a:r>
              <a:rPr b="0" lang="ru-RU" sz="1800" spc="-1" strike="noStrike">
                <a:solidFill>
                  <a:srgbClr val="000000"/>
                </a:solidFill>
                <a:latin typeface="Constantia"/>
              </a:rPr>
              <a:t>(братьями, сестрами), что чаще всего приводит к неверной самооценке.</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Заголовок 1"/>
          <p:cNvSpPr/>
          <p:nvPr/>
        </p:nvSpPr>
        <p:spPr>
          <a:xfrm>
            <a:off x="0" y="0"/>
            <a:ext cx="91440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Особенности при воспитании единственного  ребенка в семье</a:t>
            </a:r>
            <a:endParaRPr b="0" lang="en-US" sz="4000" spc="-1" strike="noStrike">
              <a:solidFill>
                <a:srgbClr val="000000"/>
              </a:solidFill>
              <a:latin typeface="Constantia"/>
            </a:endParaRPr>
          </a:p>
        </p:txBody>
      </p:sp>
      <p:sp>
        <p:nvSpPr>
          <p:cNvPr id="116" name="TextBox 2"/>
          <p:cNvSpPr/>
          <p:nvPr/>
        </p:nvSpPr>
        <p:spPr>
          <a:xfrm>
            <a:off x="304920" y="1676520"/>
            <a:ext cx="4495680" cy="424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уществует две точки зрения:</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единственный ребенок оказывается более </a:t>
            </a:r>
            <a:r>
              <a:rPr b="1" lang="ru-RU" sz="1800" spc="-1" strike="noStrike">
                <a:solidFill>
                  <a:srgbClr val="ff0000"/>
                </a:solidFill>
                <a:latin typeface="Constantia"/>
              </a:rPr>
              <a:t>эмоционально устойчив</a:t>
            </a:r>
            <a:r>
              <a:rPr b="0" lang="ru-RU" sz="1800" spc="-1" strike="noStrike">
                <a:solidFill>
                  <a:srgbClr val="ff0000"/>
                </a:solidFill>
                <a:latin typeface="Constantia"/>
              </a:rPr>
              <a:t>, </a:t>
            </a:r>
            <a:r>
              <a:rPr b="0" lang="ru-RU" sz="1800" spc="-1" strike="noStrike">
                <a:solidFill>
                  <a:srgbClr val="000000"/>
                </a:solidFill>
                <a:latin typeface="Constantia"/>
              </a:rPr>
              <a:t>нежели другие дети, потому, что не знает волнений, связанных с соперничеством братьев. </a:t>
            </a:r>
            <a:endParaRPr b="0" lang="en-US" sz="18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единственному ребенку приходится </a:t>
            </a:r>
            <a:r>
              <a:rPr b="1" lang="ru-RU" sz="1800" spc="-1" strike="noStrike">
                <a:solidFill>
                  <a:srgbClr val="ff0000"/>
                </a:solidFill>
                <a:latin typeface="Constantia"/>
              </a:rPr>
              <a:t>преодолевать больше трудностей</a:t>
            </a:r>
            <a:r>
              <a:rPr b="0" lang="ru-RU" sz="1800" spc="-1" strike="noStrike">
                <a:solidFill>
                  <a:srgbClr val="000000"/>
                </a:solidFill>
                <a:latin typeface="Constantia"/>
              </a:rPr>
              <a:t>, чем обычно, дабы приобрести психическое равновесие, потому что ему не достает брата или сестры</a:t>
            </a:r>
            <a:endParaRPr b="0" lang="en-US" sz="18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17" name="Рисунок 4" descr="i.jpeg"/>
          <p:cNvPicPr/>
          <p:nvPr/>
        </p:nvPicPr>
        <p:blipFill>
          <a:blip r:embed="rId1"/>
          <a:stretch/>
        </p:blipFill>
        <p:spPr>
          <a:xfrm>
            <a:off x="4986360" y="1712880"/>
            <a:ext cx="3895560" cy="23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Заголовок 1"/>
          <p:cNvSpPr/>
          <p:nvPr/>
        </p:nvSpPr>
        <p:spPr>
          <a:xfrm>
            <a:off x="0" y="0"/>
            <a:ext cx="91440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Трудности при воспитании единственного  ребенка в семье</a:t>
            </a:r>
            <a:endParaRPr b="0" lang="en-US" sz="4000" spc="-1" strike="noStrike">
              <a:solidFill>
                <a:srgbClr val="000000"/>
              </a:solidFill>
              <a:latin typeface="Constantia"/>
            </a:endParaRPr>
          </a:p>
        </p:txBody>
      </p:sp>
      <p:sp>
        <p:nvSpPr>
          <p:cNvPr id="119" name="Прямоугольник 2"/>
          <p:cNvSpPr/>
          <p:nvPr/>
        </p:nvSpPr>
        <p:spPr>
          <a:xfrm>
            <a:off x="304920" y="137160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оспитание </a:t>
            </a:r>
            <a:r>
              <a:rPr b="1" lang="ru-RU" sz="2400" spc="-1" strike="noStrike">
                <a:solidFill>
                  <a:srgbClr val="ff0000"/>
                </a:solidFill>
                <a:latin typeface="Constantia"/>
              </a:rPr>
              <a:t>единственного сына </a:t>
            </a:r>
            <a:r>
              <a:rPr b="0" lang="ru-RU" sz="2400" spc="-1" strike="noStrike">
                <a:solidFill>
                  <a:srgbClr val="000000"/>
                </a:solidFill>
                <a:latin typeface="Constantia"/>
              </a:rPr>
              <a:t>или </a:t>
            </a:r>
            <a:r>
              <a:rPr b="1" lang="ru-RU" sz="2400" spc="-1" strike="noStrike">
                <a:solidFill>
                  <a:srgbClr val="ff0000"/>
                </a:solidFill>
                <a:latin typeface="Constantia"/>
              </a:rPr>
              <a:t>единственной дочери </a:t>
            </a:r>
            <a:r>
              <a:rPr b="0" lang="ru-RU" sz="2400" spc="-1" strike="noStrike">
                <a:solidFill>
                  <a:srgbClr val="000000"/>
                </a:solidFill>
                <a:latin typeface="Constantia"/>
              </a:rPr>
              <a:t>гораздо более </a:t>
            </a:r>
            <a:r>
              <a:rPr b="1" lang="ru-RU" sz="2400" spc="-1" strike="noStrike">
                <a:solidFill>
                  <a:srgbClr val="ff0000"/>
                </a:solidFill>
                <a:latin typeface="Constantia"/>
              </a:rPr>
              <a:t>трудное дело, </a:t>
            </a:r>
            <a:r>
              <a:rPr b="0" lang="ru-RU" sz="2400" spc="-1" strike="noStrike">
                <a:solidFill>
                  <a:srgbClr val="000000"/>
                </a:solidFill>
                <a:latin typeface="Constantia"/>
              </a:rPr>
              <a:t>чем воспитание нескольких детей.</a:t>
            </a:r>
            <a:endParaRPr b="0" lang="en-US" sz="2400" spc="-1" strike="noStrike">
              <a:solidFill>
                <a:srgbClr val="000000"/>
              </a:solidFill>
              <a:latin typeface="Constantia"/>
            </a:endParaRPr>
          </a:p>
        </p:txBody>
      </p:sp>
      <p:sp>
        <p:nvSpPr>
          <p:cNvPr id="120" name="TextBox 4"/>
          <p:cNvSpPr/>
          <p:nvPr/>
        </p:nvSpPr>
        <p:spPr>
          <a:xfrm>
            <a:off x="380880" y="3276720"/>
            <a:ext cx="4876920" cy="3156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Чрезмерная забота и опека</a:t>
            </a:r>
            <a:endParaRPr b="0" lang="en-US" sz="2200" spc="-1" strike="noStrike">
              <a:solidFill>
                <a:srgbClr val="000000"/>
              </a:solidFill>
              <a:latin typeface="Constantia"/>
            </a:endParaRPr>
          </a:p>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овышенно внимание</a:t>
            </a:r>
            <a:endParaRPr b="0" lang="en-US" sz="2200" spc="-1" strike="noStrike">
              <a:solidFill>
                <a:srgbClr val="000000"/>
              </a:solidFill>
              <a:latin typeface="Constantia"/>
            </a:endParaRPr>
          </a:p>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хватка душевного пространства</a:t>
            </a:r>
            <a:endParaRPr b="0" lang="en-US" sz="2200" spc="-1" strike="noStrike">
              <a:solidFill>
                <a:srgbClr val="000000"/>
              </a:solidFill>
              <a:latin typeface="Constantia"/>
            </a:endParaRPr>
          </a:p>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авязанная роль образцового ребенка</a:t>
            </a:r>
            <a:endParaRPr b="0" lang="en-US" sz="2200" spc="-1" strike="noStrike">
              <a:solidFill>
                <a:srgbClr val="000000"/>
              </a:solidFill>
              <a:latin typeface="Constantia"/>
            </a:endParaRPr>
          </a:p>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овышенное внимание взрослых</a:t>
            </a:r>
            <a:endParaRPr b="0" lang="en-US" sz="2200" spc="-1" strike="noStrike">
              <a:solidFill>
                <a:srgbClr val="000000"/>
              </a:solidFill>
              <a:latin typeface="Constantia"/>
            </a:endParaRPr>
          </a:p>
          <a:p>
            <a:pPr>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121" name="Рисунок 5" descr="713262-portrait-of-spoiled-child.jpg"/>
          <p:cNvPicPr/>
          <p:nvPr/>
        </p:nvPicPr>
        <p:blipFill>
          <a:blip r:embed="rId1"/>
          <a:stretch/>
        </p:blipFill>
        <p:spPr>
          <a:xfrm>
            <a:off x="5595840" y="2170080"/>
            <a:ext cx="2981520" cy="442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60"/>
            <a:ext cx="8229600" cy="762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Положительные стороны</a:t>
            </a:r>
            <a:endParaRPr b="0" lang="en-US" sz="4000" spc="-1" strike="noStrike">
              <a:solidFill>
                <a:srgbClr val="04617b"/>
              </a:solidFill>
              <a:latin typeface="Calibri"/>
            </a:endParaRPr>
          </a:p>
        </p:txBody>
      </p:sp>
      <p:sp>
        <p:nvSpPr>
          <p:cNvPr id="123" name="Прямоугольник 5"/>
          <p:cNvSpPr/>
          <p:nvPr/>
        </p:nvSpPr>
        <p:spPr>
          <a:xfrm>
            <a:off x="228600" y="1219320"/>
            <a:ext cx="8686800" cy="5015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динственные дети получают больше внимания и любви родителей. Только в тех случаях, когда родители "перегибают", не оставляют места для инициативы ребенка, не дают возможности ему самому испробовать свои силы, преодолевать препятствия, вреда бывает больше, чем пользы. К сожалению, тенденция именно такова: ведь у родителей он единственный. Однако есть родители, которые пересиливают эту свою "слабинку" и создают ребенку нормальную обстановку для развития.</a:t>
            </a:r>
            <a:endParaRPr b="0" lang="en-US" sz="20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одители единственного ребенка имеют больше возможностей развить его способности, быть более внимательными к его внутреннему миру, его переживаниям. Будучи ближе к ребенку, родители больше влияют на развитие его личности, чем в других семьях. </a:t>
            </a:r>
            <a:endParaRPr b="0" lang="en-US" sz="20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15:53:43Z</dcterms:created>
  <dc:creator>DISoft04</dc:creator>
  <dc:description/>
  <dc:language>en-US</dc:language>
  <cp:lastModifiedBy>Admin</cp:lastModifiedBy>
  <dcterms:modified xsi:type="dcterms:W3CDTF">2012-10-25T22:44:18Z</dcterms:modified>
  <cp:revision>4</cp:revision>
  <dc:subject/>
  <dc:title>Слайд 1</dc:title>
</cp:coreProperties>
</file>