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ADB-5353-45CC-B23B-00FD4856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C3B-5A51-4567-8B5A-F4BCD016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30B-794D-4FCE-B528-62D8E60B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EC7-1A6D-428E-ACCD-31FEC5FA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0D0-B305-42F1-BF4D-77B534C0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199-94DB-4AFA-899A-440A1978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FBA-E385-4B92-A34E-2CE57641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BAD-8047-4A56-A930-A05D67E8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A56-91D0-419E-B79B-C067D4BA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D02-E461-4509-A01E-8ABA76D1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507-722E-4537-9E02-57F88B64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30A-60D5-41EE-833E-9A79D1A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90DB-4E46-48E2-A98F-2165D3E79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новные виды и специфические особенности семейного консультир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вонарева Е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удентка 4 кур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иологического ф-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сква,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ые подходы к семейному консультиров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ратегическая семейная терап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ж.Хейли, К. Маданес, П.Вацлавик, Л.Хоффман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работа терапевта направлена на формирование у членов семьи ответственности друг за дру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уппы терапевтов в зависимости от выбранного под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едущ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Реагирующ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Чистильщики сист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особы организации процесса семейного консультир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ние со всей семь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 консультирование одного из ее чле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супружеской па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нуклеарной семьей, т.е. с семьей в узком смысле этого слова (отец–мать–де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расширенной семьей (она включает также прародителей и тех близких, которые оказывают влияние на семейные отношения: тети, дяди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экосистемой или социальной се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этапе работы с жалобой и запросом необходи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олнить жалобу-запрос конкретным содержанием (какие именно поведенческие ситуации стали основой обращ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ить «стереоскопичность» взгляда на ситуацию (и взгляд на нее родителей, и взгляд ребенка, и материалы психодиагности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любом случае психолог должен быть на стороне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правления консультирования в отношениях с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ышение социально-психологической компетентности родителей, обучение их навыкам общения и разрешения конфликт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логическая помощь взрослым членам семьи, которая включает как диагностику внутрисемейной ситуации, так и работу по ее изме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терапевтическая работа непосредственно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ктики работы при консультировании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силение когнитивного аспект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десь в основном раскрываются наиболее важные вопросы воспитания и психологического развития детей, супружеских взаимоотношени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бота по преимуществу с эмоциональной, чувственной стороной взаимоотношений, поиск истинных, неосознаваемых причин нарушений во взаимоотношения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собое внимание уделяется отношениям консультанта и клиентов, а основным средством часто становится ролевое моделирование проблемных ситуаций и нахождение способов выхода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сихологическое консуль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синоним психологического сопровождения клиента (личности или семьи) в сложные периоды жизни (В. А. Бинас, Б. М. Мастер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ять вопросов консультативной псих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чем суть процесса, возникающего между человеком (или семьей), оказавшимся в трудной ситуации и обратившимся за помощью, и человеком, ее оказывающи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функции должен выполнять консультант и какие личностные черты, установки, знания и умения необходимы для успешного выполнения своих функци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резервы, внутренние силы клиента могут быть актуализированы в ходе консультирова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особенности налагает на процесс консультирования ситуация, сложившаяся в жизни клиент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приемы и техники могут быть сознательно использованы в процессе оказания помощ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и основные задачи консуль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ьзуя метафору совместного стремления к идеальному будущ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ить «место, на котором в момент обращения находится семья» (В чем состоит проблема? В чем сущность семейного неблагополучия и его причины?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вить «место, куда хочет прийти путник», т.е. состояние, которого хочет достичь семья или отдельный обратившийся клиент (сформировать образ желаемого будущего, определить его реальность) и выбор направления изменений (Что делать? В каком направлении двигаться?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мочь клиенту (семье) туда перебраться (Как это сделать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психологического консуль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логическое 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ческие 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драма и ролевое модел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пертуарные решетки Ке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стории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групповой терап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адии процесса сопров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знание не только внешних, но и внутренних причин кризиса (жизненных затруднен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конструкция семейного или личного мифа, развитие ценностного отно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ладение необходимыми жизненными стратегиями и тактиками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ые подходы к семейному консультиров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стемный подх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М. Боуэн, С. Минухин, В. Сатир, К. Витакер и др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ют семью не просто как объединение индивидуальностей, связанных узами родства, а как целостную систему, где никто не страдает в одиноч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ые подходы к семейному консультиров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труктурная семейная 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. Минух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и основные аксио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уществляя психологическую помощь, необходимо принимать в расчет всю семью. Каждый из членов семьи должен рассматриваться как ее под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рапия семьи изменяет ее структуру и приводит к изменению поведения каждого из членов семей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я с семьей, психолог присоединяется к ней, в результате возникает терапевтическая система, делающая возможными семейные изменен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ые подходы к семейному консультиров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ва типа нарушения границ (Минухин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чет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лишняя закрыт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емь категорий действий психолога по переструктурированию семь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уализация семейных моделей взаимодейств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ие или разметка границ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скалация стресс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учение зад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симптом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муляция определенного настро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, обучение или руковод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26T09:17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