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D16-7195-4E1F-B0E2-C3F4B7D2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D94-AC2B-4495-836E-0C6196F8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581-04B4-41EB-BA77-1A1AF8E3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DD5-AD07-4EE7-A51B-774E1E68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BB33-F7D1-4CCB-AA13-9E3AF30E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2ADD-9723-40E0-A969-ED033DA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A346-BBD3-487E-8525-DF3E769D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9040-A907-43FE-8C0C-92213719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1E34-E804-4B72-A348-BE9D225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DED-2797-4CD3-B63D-A0D8DA7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DED-9938-45A0-880F-DAD5A25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A7D-D52D-46F5-B791-3BDB7718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703-CCF1-4A1B-94E3-A26FA06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2050-6153-4E30-A46B-6EAF7ED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5AD3-0CF2-4306-A8C6-A7EAC9A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066C-2B66-4A89-B036-680547F2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12AD-CF8B-4107-B179-6607D1D5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E18-4519-40A7-A195-90ADC22E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C8D-DB6C-421B-9BB5-67BA486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363-C379-4DDB-87F9-60488A26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057-18F7-4D92-813C-76D0BF9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64A-743C-42DF-BD3D-88C1267A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A3D-CB46-409D-A6DF-259A3DC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80A-B390-42AA-8934-FAC0975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A65-2851-430D-AA71-1FFF1FA724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D7A-10E0-414C-B634-B290A3361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103;&#1085;&#1074;&#1072;&#1088;&#1103;" TargetMode="External"/><Relationship Id="rId2" Type="http://schemas.openxmlformats.org/officeDocument/2006/relationships/hyperlink" Target="http://ru.wikipedia.org/wiki/1902_&#1075;&#1086;&#1076;" TargetMode="External"/><Relationship Id="rId3" Type="http://schemas.openxmlformats.org/officeDocument/2006/relationships/hyperlink" Target="http://en.wikipedia.org/wiki/Oak_Park,_Illinois" TargetMode="External"/><Relationship Id="rId4" Type="http://schemas.openxmlformats.org/officeDocument/2006/relationships/hyperlink" Target="http://en.wikipedia.org/wiki/Oak_Park,_Illinois" TargetMode="External"/><Relationship Id="rId5" Type="http://schemas.openxmlformats.org/officeDocument/2006/relationships/hyperlink" Target="http://ru.wikipedia.org/wiki/&#1048;&#1083;&#1083;&#1080;&#1085;&#1086;&#1081;&#1089;" TargetMode="External"/><Relationship Id="rId6" Type="http://schemas.openxmlformats.org/officeDocument/2006/relationships/hyperlink" Target="http://ru.wikipedia.org/wiki/4_&#1092;&#1077;&#1074;&#1088;&#1072;&#1083;&#1103;" TargetMode="External"/><Relationship Id="rId7" Type="http://schemas.openxmlformats.org/officeDocument/2006/relationships/hyperlink" Target="http://ru.wikipedia.org/wiki/1987_&#1075;&#1086;&#1076;" TargetMode="External"/><Relationship Id="rId8" Type="http://schemas.openxmlformats.org/officeDocument/2006/relationships/hyperlink" Target="http://ru.wikipedia.org/wiki/&#1055;&#1089;&#1080;&#1093;&#1086;&#1083;&#1086;&#1075;&#1080;&#1103;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0-&#1077;" TargetMode="External"/><Relationship Id="rId2" Type="http://schemas.openxmlformats.org/officeDocument/2006/relationships/hyperlink" Target="http://ru.wikipedia.org/wiki/XX_&#1074;&#1077;&#1082;" TargetMode="External"/><Relationship Id="rId3" Type="http://schemas.openxmlformats.org/officeDocument/2006/relationships/hyperlink" Target="http://ru.wikipedia.org/wiki/&#1041;&#1080;&#1093;&#1077;&#1074;&#1080;&#1086;&#1088;&#1080;&#1079;&#1084;" TargetMode="External"/><Relationship Id="rId4" Type="http://schemas.openxmlformats.org/officeDocument/2006/relationships/hyperlink" Target="http://ru.wikipedia.org/wiki/&#1055;&#1089;&#1080;&#1093;&#1086;&#1072;&#1085;&#1072;&#1083;&#1080;&#1079;" TargetMode="External"/><Relationship Id="rId5" Type="http://schemas.openxmlformats.org/officeDocument/2006/relationships/hyperlink" Target="http://ru.wikipedia.org/wiki/&#1052;&#1072;&#1089;&#1083;&#1086;&#1091;,_&#1040;&#1073;&#1088;&#1072;&#1093;&#1072;&#1084;" TargetMode="External"/><Relationship Id="rId6" Type="http://schemas.openxmlformats.org/officeDocument/2006/relationships/hyperlink" Target="http://ru.wikipedia.org/wiki/&#1052;&#1072;&#1089;&#1083;&#1086;&#1091;,_&#1040;&#1073;&#1088;&#1072;&#1093;&#1072;&#1084;" TargetMode="External"/><Relationship Id="rId7" Type="http://schemas.openxmlformats.org/officeDocument/2006/relationships/hyperlink" Target="http://ru.wikipedia.org/wiki/&#1056;&#1086;&#1076;&#1078;&#1077;&#1088;&#1089;,_&#1050;&#1072;&#1088;&#1083;_&#1056;&#1101;&#1085;&#1089;&#1086;&#1084;" TargetMode="External"/><Relationship Id="rId8" Type="http://schemas.openxmlformats.org/officeDocument/2006/relationships/hyperlink" Target="http://ru.wikipedia.org/wiki/&#1056;&#1086;&#1076;&#1078;&#1077;&#1088;&#1089;,_&#1050;&#1072;&#1088;&#1083;_&#1056;&#1101;&#1085;&#1089;&#1086;&#1084;" TargetMode="External"/><Relationship Id="rId9" Type="http://schemas.openxmlformats.org/officeDocument/2006/relationships/hyperlink" Target="http://ru.wikipedia.org/wiki/&#1060;&#1088;&#1072;&#1085;&#1082;&#1083;,_&#1042;&#1080;&#1082;&#1090;&#1086;&#1088;" TargetMode="External"/><Relationship Id="rId10" Type="http://schemas.openxmlformats.org/officeDocument/2006/relationships/hyperlink" Target="http://ru.wikipedia.org/wiki/&#1060;&#1088;&#1072;&#1085;&#1082;&#1083;,_&#1042;&#1080;&#1082;&#1090;&#1086;&#1088;" TargetMode="External"/><Relationship Id="rId11" Type="http://schemas.openxmlformats.org/officeDocument/2006/relationships/hyperlink" Target="http://ru.wikipedia.org/wiki/&#1041;&#1102;&#1083;&#1077;&#1088;,_&#1064;&#1072;&#1088;&#1083;&#1086;&#1090;&#1090;&#1072;" TargetMode="External"/><Relationship Id="rId12" Type="http://schemas.openxmlformats.org/officeDocument/2006/relationships/hyperlink" Target="http://ru.wikipedia.org/wiki/&#1041;&#1102;&#1083;&#1077;&#1088;,_&#1064;&#1072;&#1088;&#1083;&#1086;&#1090;&#1090;&#1072;" TargetMode="External"/><Relationship Id="rId13" Type="http://schemas.openxmlformats.org/officeDocument/2006/relationships/hyperlink" Target="http://ru.wikipedia.org/wiki/&#1052;&#1101;&#1081;,_&#1056;&#1086;&#1083;&#1083;&#1086;" TargetMode="External"/><Relationship Id="rId14" Type="http://schemas.openxmlformats.org/officeDocument/2006/relationships/hyperlink" Target="http://ru.wikipedia.org/wiki/&#1052;&#1101;&#1081;,_&#1056;&#1086;&#1083;&#1083;&#1086;" TargetMode="External"/><Relationship Id="rId15" Type="http://schemas.openxmlformats.org/officeDocument/2006/relationships/hyperlink" Target="http://ru.wikipedia.org/w/index.php?title=&#1044;&#1078;&#1091;&#1088;&#1072;&#1088;&#1076;,_&#1057;&#1080;&#1076;&#1085;&#1080;&amp;action=edit&amp;redlink=1" TargetMode="External"/><Relationship Id="rId16" Type="http://schemas.openxmlformats.org/officeDocument/2006/relationships/hyperlink" Target="http://ru.wikipedia.org/w/index.php?title=&#1044;&#1078;&#1091;&#1088;&#1072;&#1088;&#1076;,_&#1057;&#1080;&#1076;&#1085;&#1080;&amp;action=edit&amp;redlink=1" TargetMode="External"/><Relationship Id="rId17" Type="http://schemas.openxmlformats.org/officeDocument/2006/relationships/hyperlink" Target="http://ru.wikipedia.org/wiki/&#1041;&#1100;&#1102;&#1076;&#1078;&#1077;&#1085;&#1090;&#1072;&#1083;&#1100;,_&#1044;&#1078;&#1077;&#1081;&#1084;&#1089;" TargetMode="External"/><Relationship Id="rId18" Type="http://schemas.openxmlformats.org/officeDocument/2006/relationships/hyperlink" Target="http://ru.wikipedia.org/wiki/&#1041;&#1100;&#1102;&#1076;&#1078;&#1077;&#1085;&#1090;&#1072;&#1083;&#1100;,_&#1044;&#1078;&#1077;&#1081;&#1084;&#1089;" TargetMode="External"/><Relationship Id="rId19" Type="http://schemas.openxmlformats.org/officeDocument/2006/relationships/hyperlink" Target="http://ru.wikipedia.org/wiki/&#1064;&#1086;&#1089;&#1090;&#1088;&#1086;&#1084;,_&#1069;&#1074;&#1077;&#1088;&#1077;&#1090;&#1090;" TargetMode="External"/><Relationship Id="rId20" Type="http://schemas.openxmlformats.org/officeDocument/2006/relationships/hyperlink" Target="http://ru.wikipedia.org/wiki/&#1064;&#1086;&#1089;&#1090;&#1088;&#1086;&#1084;,_&#1069;&#1074;&#1077;&#1088;&#1077;&#1090;&#1090;" TargetMode="External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4;&#1086;&#1072;&#1082;&#1090;&#1091;&#1072;&#1083;&#1080;&#1079;&#1072;&#1094;&#1080;&#1103;" TargetMode="External"/><Relationship Id="rId2" Type="http://schemas.openxmlformats.org/officeDocument/2006/relationships/hyperlink" Target="http://ru.wikipedia.org/wiki/&#1058;&#1074;&#1086;&#1088;&#1095;&#1077;&#1089;&#1090;&#1074;&#1086;" TargetMode="External"/><Relationship Id="rId3" Type="http://schemas.openxmlformats.org/officeDocument/2006/relationships/hyperlink" Target="http://ru.wikipedia.org/wiki/&#1051;&#1102;&#1073;&#1086;&#1074;&#1100;" TargetMode="External"/><Relationship Id="rId4" Type="http://schemas.openxmlformats.org/officeDocument/2006/relationships/hyperlink" Target="http://ru.wikipedia.org/wiki/&#1057;&#1074;&#1086;&#1073;&#1086;&#1076;&#1072;_&#1074;&#1086;&#1083;&#1080;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580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333399"/>
                </a:solidFill>
                <a:uFillTx/>
                <a:latin typeface="Tahoma"/>
              </a:rPr>
              <a:t>Семейная психология</a:t>
            </a:r>
            <a:br>
              <a:rPr sz="4800"/>
            </a:br>
            <a:br>
              <a:rPr sz="48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ма 19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Основные идеи воспитания в концепции К. Роджерса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4191120"/>
            <a:ext cx="8351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кренёв Илья Николае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сых Надежда Андреевн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93C-73A6-4FDA-9F76-28A2CA0A8C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П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ринципы обучения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2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 учения для каждого человека индивидуально своеобразе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обучения основан на внутренней мотивации, а также на потребности личности вступать в полноценное общение с други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ловек лучше всего обучается в обстановке заботы и поддержки, а не формального руковод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0C1-3F90-4FA7-BFBB-E6E0C556C2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авнение с традиционной стратегий обучения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1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нику, (и его родителям) представляется право выбора типа школы, содержания образования, его организационных форм и т.д.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ник ставится в позицию активного участника самого учебного процесса, его планирования и оценки результа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ая работа ученика сочетается с работой групповой на основе сотрудничества и диалогич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4B2-9838-482D-AA4A-99401C347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авнение с традиционной стратегий обучения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сть ученика в обучении уважается и поощряет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ник чувствует, что его права находятся под защитой, причём школа заботится о предоставлении ему необходимых условий для организации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школе оценивается успешность индивидуального продвижения ученика, а также развитие его умений учиться и адекватно строить собственную самооцен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839-FAE9-4613-B19A-256BCD6E8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Гуманистическая психология смотрит на человека с большей надёжностью и оптимизмом. Она верит в то, что человек обладает потенциалом здорового и творческого рост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FD5-E7D7-414B-B594-67C87363FF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Марцинковская Т. Д. История психологии: Учеб. пособие для студентов высш. учеб. заведен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Роджерс К. Р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 Взгляд на психотерапию. Становление человека. — М.: Издательская группа «Прогресс», «Универс», 1994. — 480 с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0%D0%BE%D0%B4%D0%B6%D0%B5%D1%80%D1%81,_%D0%9A%D0%B0%D1%80%D0%BB_%D0%A0%D1%8D%D0%BD%D1%81%D0%BE%D0%B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691-2905-450E-9407-C2AABAF854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3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Карл Рэнсом Роджер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Гуманистическая психолог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нципы обуч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Сравнение с традиционной стратегий обучения</a:t>
            </a:r>
            <a:r>
              <a:rPr b="0" lang="ru-RU" sz="3600" spc="-1" strike="noStrike">
                <a:solidFill>
                  <a:srgbClr val="515151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9A5-A271-4278-AF11-467EAA60F5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Карл Рэнсом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Родже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та рожде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08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8 январ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19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сто рожде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66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Оук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-Пар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штат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Иллинойс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, СШ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та смер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08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4 февра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1987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(85 л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учная сфер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08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псих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Carl_Ransom_Rogers" descr=""/>
          <p:cNvPicPr/>
          <p:nvPr/>
        </p:nvPicPr>
        <p:blipFill>
          <a:blip r:embed="rId9"/>
          <a:stretch/>
        </p:blipFill>
        <p:spPr>
          <a:xfrm>
            <a:off x="1066680" y="2057400"/>
            <a:ext cx="33004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8A7-00D7-4F64-802C-A591F3514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Карл Рэнсом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Родже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не был связан ни с каким университетом, никто не стоял за моей спиной и не предъявлял претензий к моим методам работы… Организациям было все равно, как я работаю, они лишь надеялись, что хоть какая-то польза от меня буде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‘’К.Роджерс’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38D-7016-4BB7-9D8C-C85B0717EA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Карл Рэнсом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Роджер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692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Мне стало приходить в голову, что вместо демонстрации своей учености и эрудиции, нужно полагаться на пациента, дать ему возможность самому направлять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терапи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‘’К.Роджерс’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5516640"/>
            <a:ext cx="33130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CD2-9280-4AD7-9074-54B83D71E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Карл Рэнсом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Родже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«Из отношений с этими людьми, из часов, проведенных с ними, я почерпнул большинство моих догадок о значении терапии, о динамике межличностных отношений, о структуре и функционировании личности»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8D3-AF17-44DC-AB00-D2108C339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  <a:ea typeface="Arial"/>
              </a:rPr>
              <a:t>Гуманистическая психология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2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уманистическая психология в качестве самостоятельного течения выделилась в начале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60-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годов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XX 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как протест против домин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"/>
              </a:rPr>
              <a:t>бихевио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и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"/>
              </a:rPr>
              <a:t>психоанали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в США, получив название третьей си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данному направлению могут быть отнесены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5"/>
              </a:rPr>
              <a:t>А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6"/>
              </a:rPr>
              <a:t> Масл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7"/>
              </a:rPr>
              <a:t>К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8"/>
              </a:rPr>
              <a:t> Роджер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"/>
              </a:rPr>
              <a:t>В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0"/>
              </a:rPr>
              <a:t> Франк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08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1"/>
              </a:rPr>
              <a:t>Ш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2"/>
              </a:rPr>
              <a:t> Бюл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3"/>
              </a:rPr>
              <a:t>Р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4"/>
              </a:rPr>
              <a:t> Мэ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5"/>
              </a:rPr>
              <a:t>С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6"/>
              </a:rPr>
              <a:t> Джурар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7"/>
              </a:rPr>
              <a:t>Д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8"/>
              </a:rPr>
              <a:t> Бьюджент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08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9"/>
              </a:rPr>
              <a:t>Э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0"/>
              </a:rPr>
              <a:t> Шост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и друг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C94-243D-438F-8587-ECF31E43D4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  <a:ea typeface="Arial"/>
              </a:rPr>
              <a:t>Гуманистическая психология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50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уманистическая псих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направление в западной психологии, признающее своим главным предметом личность, как уникальную целостную систему, которая представляет собой не нечто заранее данное, а «открытую возможность» самоактуализации, присущую только человеку. В качестве основных предметов анализа выступают: высшие ценности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само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личности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твор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"/>
              </a:rPr>
              <a:t>любов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"/>
              </a:rPr>
              <a:t>своб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 ответственность, автономия, психическое здоровье, межличностное обще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E8B-8216-4267-9860-62B110807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П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ринципы обуче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8640" y="1904760"/>
            <a:ext cx="8955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учение основано на общечеловеческих ценностя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учение есть процесс становления самореализующейся л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тие личности происходит целостно, в единстве разума и чувств, духа и те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учение осуществляется посредством собственной деятельности челове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498-774C-41E7-BD47-1C75923B40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7:55:48Z</dcterms:created>
  <dc:creator>Анюта</dc:creator>
  <dc:description/>
  <dc:language>en-US</dc:language>
  <cp:lastModifiedBy>Kosykh</cp:lastModifiedBy>
  <dcterms:modified xsi:type="dcterms:W3CDTF">2012-10-26T08:32:32Z</dcterms:modified>
  <cp:revision>63</cp:revision>
  <dc:subject/>
  <dc:title>Презентация как средство донесения информации</dc:title>
</cp:coreProperties>
</file>